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880F-A155-4D9B-90D0-A8AAE7E04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6952F-129C-4EF4-A3DC-08D37028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4569EE-795B-4450-8BC5-ADD6400497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8E28B-0318-4D3F-ABF8-E6F36AAE78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BE9F3-6319-4E22-8352-04B51479C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96402-0441-4028-BF62-861E50660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D2EA6-B212-4B30-B10D-ECB365CA3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EF8AE-0A02-4D7E-86A8-1ED30F82D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1470F-2DDD-47CF-847E-03F203FD4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9B772C-EE68-4B64-9F37-DFF19AA1BF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17E105-5C2E-48D3-AE33-0F6150DCE0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AEDF9D-6AA8-47AA-8919-70F06D9531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E984A-C9CD-4D90-98BB-6469F946F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725A54-61AA-4294-B83C-A9982C6D74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73E84C-5744-4513-9397-DECA4CAF2F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4BDB51-F187-4718-887F-FB08E1080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414172-B184-4A49-B072-CA710D6C6B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B67875-EA97-42A1-8678-30483274F3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07FC8A-1544-4670-863D-A4C7DCB2C8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E57ED-2A2D-4C33-8B10-6A68D43FD6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3F224A-8B5D-4EC5-BEE2-B7B3989664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1FA50C-C948-4051-A16A-683F23588E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1B11D9-7952-4614-8890-BDB0F29258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FFB7-0CCB-4B41-BA1F-F7EEE58A9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CE0664-44DF-4405-AC47-34ECA79C02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83DEB4-7781-486A-8486-F676ED9EC6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4C24E5-54DE-4743-B529-83803DB60A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2FEF02-92C7-42FB-B192-1265DFD4A8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EE3B59-9331-4E1E-9E02-D0705DAB5D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99D2F4-BDCC-45BA-A218-E0A0DD850E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EE2AFB-FFD9-4AA5-BA88-2CE820C625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3C032-2A70-45BF-BD00-57787F7AB8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BFED3A-CBD0-4A2A-AF7F-0E9DBB85E1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B5221F-2C1E-4638-858A-E054A1B01C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A79C1-374F-4C6B-9C7B-68D01416C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761AE7-D709-47AA-8742-08F712B3FA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0E6017-9374-4620-9F4A-B9680390EE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02E715-8C0D-4724-B585-A014204500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716987-6C3E-40CC-B892-345072355B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12AA04-9B83-483F-9598-73B66DBF86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2BC385-9C1F-4A41-8EF1-049FF4D25B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FFF1C0-4585-42E3-977F-ADD1DF4C97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6F3562-3B22-45F7-98F3-8593174D6D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838B90-7C5D-49C7-BE63-6D02F9E7C3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D807C5-BDDD-4CBC-B7B3-C970024A73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CC19D-AB50-43E9-AF22-7E1AAAA2E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F9945A-6A39-40F3-8849-2F74310C3C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690450-715C-4704-B33F-E8D045221F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41D41B-2410-40F3-BA2F-BCE888962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2A234-A7AE-4592-82D7-ABD903751C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E7224A-AFD7-41A4-83BB-F3DA3D61C4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ED6F75-DA01-4376-AB8D-A5291EE7C8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658C8F-4576-4070-B545-9512298C9B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4A3FB0-43F5-47A8-9285-7F97AC8CDE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2A51E8-71A1-4B08-9B67-CA00E1A3F5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C47C94-56AD-4E94-B56D-55CAE5481F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34AAA-15A9-425E-B3FE-9BE12D36A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0F5841-5797-454C-BE99-4EE4D9EA3D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42D3AF-C2AE-4371-8A46-6B818D8212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8198B2-FA2B-4463-A781-EE8B711FF5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D6A412-2888-476A-976A-BA936FCF1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DFDB98-B9A8-433D-A849-360B3BFF40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9F2D17-EE98-4EF5-AE11-1D5CB2D4DF6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660F41-C069-49F6-A4C7-9BCDB15180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317C26-DF44-4272-B11D-53973DDE7F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96A836-F850-4DED-9646-79A03CF919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D84065-1766-44CD-8E8D-04F46A9410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AC814-4B6B-4841-8AD0-E34553E42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12D57D-96AD-407A-AF24-BC72F170FE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9A22B7-3CDA-45A0-808F-1B3BCB66EE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F10B98-E0D2-4650-B52D-C7E8134E02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38C2CB-CEB7-464B-ADEE-981393F992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DAA7C7-A574-4F80-B19A-8045B438FB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1BD58D-5F4C-46F1-89A8-51AF652067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5D3054-852A-409C-A986-2334725847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5875B0-60CE-4033-BBEA-9DADE363D9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8CFEB7-E2E6-4787-A2AF-FF10D905AF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4AF1A0-6EDC-41CE-9CA6-14CF18F352A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6FB46-D8C1-460D-ACF4-5DCEE2E93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0B6CC2-8C51-4713-A3B2-2A2B03A8AB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AE7730-1FF4-4B5E-8510-E078BDF1E9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A4F08A-BA72-4B8A-A39A-FA7F054806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2BE845-C02D-4C70-9C6E-0B8105CE9F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DCE0BD-2687-42DA-86C2-2A90F29041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7C3C24-1CA0-4DAC-97B7-A549B13690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FB4D3C-74FE-423E-B7DC-FAA0B408F2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40D634-17C2-4A8D-A978-3784ABC6DE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497CF5-91D2-4260-8917-BE2F766CDC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C2718E-D49D-4E9E-BD48-58DD1FC93D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368C1-800B-4412-B28B-170BDBAC1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E41F92-1E3E-41F1-BCA7-455FBBE7E03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49D17F3-554D-4869-87DC-ABC79893C2D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50587D-4D5D-42E7-BDCD-14AD04AB83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D4BFA9-E574-4692-8CE2-574E563EFE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22CFE0-38B6-41E7-B92B-6291DA73DF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9ED31B-EE14-43FE-A698-304F381FD0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11C3D8-331A-438F-9C5F-291E228E40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F87D01-DDFD-4B0D-95D1-A15EF2DF75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A587F3-1ABC-487D-88FD-57F95FADC0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1E67E3-8798-4AC3-B0AB-E0E2DE53F9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A4C9E-EEE7-496C-9EA5-46274A85C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0C11B1-9611-4742-9E89-8E6A3BB9E9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D4FDF9-9005-42AB-ABCE-1DED932E04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E7793B-33D0-4CD0-8AFC-0A77B555F09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EA8CD8-107B-4F28-9D52-4D442DF19E9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091948-8423-41C8-B553-C93EC83D7AA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F58EDC-7E2A-4A3E-904D-320C75105C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20BBEF-6880-495C-BED3-6CE34C75DF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BB5828-38C0-4932-9348-F908EC7C9D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AD8BFB-76B5-4B1E-A727-5A5A0968A1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76825D-D579-40A4-B8A7-8389F468CA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BB150-F27F-4F69-B29A-C1FBE71F6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9F0CC-5E4B-409E-BAD0-01A63BEC7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E874D6-D8BF-44F2-88C1-C0D19A65BD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857862-1C2A-437C-8A95-C74A52B13E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0C692A-BD56-420F-9E5A-FF4F756407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69112F1-1F28-4BE8-8E76-96F1A8CC56E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9B7ADF-094C-4CAD-8F1D-E01428B4E7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717BA-EDCB-4A8A-8FAA-38EBD8F84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A5876-BF61-41E7-B51D-D3AD01F53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DB6DA-26E4-4C26-9170-B99847F68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1A8AD-F418-43CB-8686-05548C277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4DCF14-AAD8-4556-B8D5-FBB8A6B44F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4137A-1F49-4AA7-A485-757ECBD0F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00BF8-BDE2-4FD2-8DC9-C2394D473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648B5-4A61-49B7-94C5-790C3A2D5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A0DEB-9B6C-4E54-8C31-D841E6E21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A81D5-B917-43EF-9C6F-BA0E3C69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BAFC7-C3F7-47C7-B091-043B24D8D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BD379-AAE3-4DB1-8C97-9050D6C50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72DEA-DD98-4EFE-A5F2-9E1596252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24845-6BA8-4E9D-93D4-296214165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FD70C-EDC7-417F-9696-ACB8ABEC3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7C3ED-035E-4EE8-A37F-2ED4BD9C9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8414FE-2188-4F42-8F2C-66D8E722C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299FE9-90AE-4ED7-BC4F-8B7725F37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16DE3-9A2D-4253-9DA2-DF67B0E78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0590B-1C99-4A20-953A-C2B9235D6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9573-67A5-4B43-B405-85A7DAC0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AAF7A-1278-43B4-B38A-E61B4BB3F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73B6A-506D-449D-B65D-FC1A6E519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29B10-75CD-4803-99F2-0BD3C2427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490A9-064B-48FD-A0BD-D922A3908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EED38-B683-4DCB-BB4D-30C64FA19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937C6-A242-423C-9E00-AFFA910A7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5277B-A9BD-4F48-B4A9-11C3215BF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5BA8E-D4A6-476C-9E91-DD85BE084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43D535-F39D-473F-A145-2BAD9FA18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F75154-AC91-48E9-BA2F-E14C3CAF4F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E6712-BDB5-456E-B675-BF53A086A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C2E1A-3BA1-482E-B800-F054AAEF6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363BC-8587-46FD-8F94-A5716C7C9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583B0-B3F3-417F-92F7-7969329E6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4C874-F20A-4342-8A5F-E71F793B0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1935A-242A-4635-85C1-FEA5BBABE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824F7-C4BC-4952-AA44-9ADCA4E2D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FE7AD-AA8D-4804-B9B9-6009D2C64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8FD77-09A9-4F18-BC3E-21C282876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56611-B8EF-42E3-B4D6-20BE1DB9F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F4BE12-CFC7-4B5C-95C6-A29BE84BCC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0C88A-5E71-424B-B9DB-DE2F8E70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BF83EA-36A6-4D1B-8A45-00D222E3D1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38F10D-7610-4FD9-B73C-FA84CDF9BB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D12C9-1AAF-477F-AFF1-48F4F381B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7DBF2-1F74-4A2F-9B87-316CFFA12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33C50-0289-4C0A-B3C6-3C5C69C52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D8FB8-4583-4D93-8656-2C54ECDED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EE5981-9F1C-4FA7-A470-407CF90F9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08821-5D4A-4C96-8A0B-999657E58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B37B7-3B01-4D49-B757-1B4DA4FEB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42D5E-7B02-49D5-9EC2-E1CC92C89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7166-CD43-42CE-8E29-695808C1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09FED-58CF-47BB-8929-167FD1D33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BE8A1-C66B-4FAD-AECF-48375B650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B3CE37-FF1D-4B61-AB05-BEE2965242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3611A7-CAEA-464B-8181-38607D50E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85599-F984-404A-849B-142221140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008493-490D-4B33-AD1B-2AD04EF22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D674D-BBA9-4956-A83F-288D2BC27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EC0CB-D1E9-41E8-83A5-AC82F8F085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3F16F-AE11-4F57-B5DA-9C96BBAE5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4791D-4196-4D0D-A8C9-00D57D828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4692-A915-4545-9109-5BEFE0D7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261C0-6B7A-40A9-9F5B-94853E04E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8E264-1132-438F-AF29-BD9F6DC03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28CBD-A449-4237-8D8E-3EACB3CCF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4BFFD-228C-403E-8D51-E07E304E0C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C09D0-1EED-43F5-AB2D-446D54A78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690135-5B63-41E4-AA36-DC9835ACE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D990D-0339-4620-A02A-06B9969A74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43DD7-B5EE-4879-8737-EC4518297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6E059-A53C-4D6B-95FB-5B8EDD4FD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012C3-AF0C-4CC7-989C-830FD8E3C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3494-E942-429B-A25D-E01417D9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42594-DA65-4EE6-A0F7-4F156DE3E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BD6C9-2C91-4C58-8A4A-E0E2E61B5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DD04E-F412-459A-872C-20714B356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985CA-6EB1-4C72-8F02-EBFBE6ED6D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70B90-94EC-4A68-883D-032070142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3A00A2-02A9-4AC4-95DF-D91D88AEBD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A6E654-50A2-4D41-AB25-A4BAFE73F4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496B87-1FFC-4FF7-B014-3226A3F3EC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E6C00-3A00-4857-A596-0040D9F411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9B14CE-B613-4226-B7D2-52C427B87F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32B2-DD72-47BF-9EDF-896C871592B2}"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8CFB-4613-44DE-B671-FA6BB9A90E94}"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B990-072A-45BF-A9B8-A125EDA0D825}"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278f"/>
                </a:solidFill>
                <a:latin typeface="Arial"/>
              </a:rPr>
              <a:t>“</a:t>
            </a:r>
            <a:endParaRPr b="0" lang="en-US" sz="8000" spc="-1" strike="noStrike">
              <a:solidFill>
                <a:srgbClr val="000000"/>
              </a:solidFill>
              <a:latin typeface="Arial"/>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278f"/>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1EF7-C1A7-4BFD-A96A-1B3488098E25}"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8520-44D4-4286-AA68-7A7CC9C0035E}"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278f"/>
                </a:solidFill>
                <a:latin typeface="Arial"/>
              </a:rPr>
              <a:t>“</a:t>
            </a:r>
            <a:endParaRPr b="0" lang="en-US" sz="8000" spc="-1" strike="noStrike">
              <a:solidFill>
                <a:srgbClr val="000000"/>
              </a:solidFill>
              <a:latin typeface="Arial"/>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278f"/>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5A57-177B-492E-AB68-2F72C20688F9}"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3E83-EE89-4B10-BE7D-79C043398618}"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D23-28A8-4A2D-9E3B-225DC6B54426}"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9620-B001-4D8B-8AC5-5132F4F380E2}"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D3AD-8ECC-4A07-BE36-8007CE30EAD1}"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715E-EACA-4299-9D5D-967167574323}"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919A-0529-480C-89DE-0EB3F66EF573}"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96D6-F0B8-4A0D-9393-0F7812C8569F}"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9724-13E7-4E72-BCAF-825728BEAA3A}"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7B8D-2151-4B75-BC5B-3B14074C0D56}"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AC24-6C7D-4184-8483-20687B9EE82C}"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632e6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632e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922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2212-724B-41B6-BD72-21CE5C4DD037}" type="slidenum">
              <a:rPr b="0" lang="pt-BR"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5400" spc="-1" strike="noStrike">
                <a:solidFill>
                  <a:srgbClr val="000000"/>
                </a:solidFill>
                <a:latin typeface="Calibri"/>
              </a:rPr>
              <a:t>Teoria e Terapia do Esquema</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6181560" y="4776480"/>
            <a:ext cx="6599520" cy="2397240"/>
          </a:xfrm>
          <a:prstGeom prst="rect">
            <a:avLst/>
          </a:prstGeom>
          <a:noFill/>
          <a:ln w="0">
            <a:noFill/>
          </a:ln>
        </p:spPr>
        <p:txBody>
          <a:bodyPr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595959"/>
                </a:solidFill>
                <a:latin typeface="Calibri"/>
              </a:rPr>
              <a:t>Instrutora de supervisão</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595959"/>
                </a:solidFill>
                <a:latin typeface="Calibri"/>
              </a:rPr>
              <a:t>Cristina Pressutto</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595959"/>
                </a:solidFill>
                <a:latin typeface="Calibri"/>
              </a:rPr>
              <a:t>Instrutora de Ensino</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595959"/>
                </a:solidFill>
                <a:latin typeface="Calibri"/>
              </a:rPr>
              <a:t>Mirian De Oliveira Exel</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CaixaDeTexto 2"/>
          <p:cNvSpPr/>
          <p:nvPr/>
        </p:nvSpPr>
        <p:spPr>
          <a:xfrm>
            <a:off x="857160" y="2071800"/>
            <a:ext cx="77868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rceber as pessoas disponíveis para apoio e relacionamento como instáveis ou não confiávei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s outros não continuarão a prover apoio, conexão, força ou cuidados por serem emocionalmente instáveis ou imprevisíveis, ou porque irão morrer ou irão abondonar o/a paciente em troca de alguém melhor.</a:t>
            </a:r>
            <a:endParaRPr b="0" lang="en-US" sz="2400" spc="-1" strike="noStrike">
              <a:solidFill>
                <a:srgbClr val="000000"/>
              </a:solidFill>
              <a:latin typeface="Arial"/>
            </a:endParaRPr>
          </a:p>
        </p:txBody>
      </p:sp>
      <p:sp>
        <p:nvSpPr>
          <p:cNvPr id="1207" name="Retângulo 3"/>
          <p:cNvSpPr/>
          <p:nvPr/>
        </p:nvSpPr>
        <p:spPr>
          <a:xfrm>
            <a:off x="285840" y="1143000"/>
            <a:ext cx="8429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Crenças de Abandono e Instabilidade</a:t>
            </a:r>
            <a:endParaRPr b="0" lang="en-US" sz="3200" spc="-1" strike="noStrike">
              <a:solidFill>
                <a:srgbClr val="000000"/>
              </a:solidFill>
              <a:latin typeface="Arial"/>
            </a:endParaRPr>
          </a:p>
        </p:txBody>
      </p:sp>
      <p:sp>
        <p:nvSpPr>
          <p:cNvPr id="1208"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68000" y="23400"/>
            <a:ext cx="86756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I- Desconexão e Rejeição</a:t>
            </a:r>
            <a:endParaRPr b="0" lang="en-US" sz="3600" spc="-1" strike="noStrike">
              <a:solidFill>
                <a:srgbClr val="262626"/>
              </a:solidFill>
              <a:latin typeface="Century Gothic"/>
            </a:endParaRPr>
          </a:p>
        </p:txBody>
      </p:sp>
      <p:sp>
        <p:nvSpPr>
          <p:cNvPr id="1210" name=""/>
          <p:cNvSpPr txBox="1"/>
          <p:nvPr/>
        </p:nvSpPr>
        <p:spPr>
          <a:xfrm>
            <a:off x="763200" y="1305000"/>
            <a:ext cx="7985160" cy="5076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Desconfiança/ Abuso-</a:t>
            </a:r>
            <a:r>
              <a:rPr b="0" lang="pt-BR" sz="2800" spc="-1" strike="noStrike">
                <a:solidFill>
                  <a:srgbClr val="404040"/>
                </a:solidFill>
                <a:latin typeface="Century Gothic"/>
              </a:rPr>
              <a:t> possuem a convicção de que os outros (tendo a oportunidade) vão magoar, abusar, humilhar, trapacear, mentir, manipular ou tirar vantagem. Normalmente envolve a percepção de que o dano é intencional ou resultado de negligencia injustificada extrema. Pode incluir o sentimento de que a pessoa sempre acaba sendo enganada pelos outros ou a ideia de que “a corda sempre arrebenta no lado mais fraco”.</a:t>
            </a:r>
            <a:endParaRPr b="0" lang="en-US" sz="28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CaixaDeTexto 2"/>
          <p:cNvSpPr/>
          <p:nvPr/>
        </p:nvSpPr>
        <p:spPr>
          <a:xfrm>
            <a:off x="857160" y="1928880"/>
            <a:ext cx="77868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s outros irão ferir, abusar, humilhar, enganar, mentir, manipular, levar vantagem.</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 ferir é intencional ou consequência de negligência extrema ou imperdoável.</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nsação de ser sempre enganado pelos outros</a:t>
            </a:r>
            <a:endParaRPr b="0" lang="en-US" sz="2400" spc="-1" strike="noStrike">
              <a:solidFill>
                <a:srgbClr val="000000"/>
              </a:solidFill>
              <a:latin typeface="Arial"/>
            </a:endParaRPr>
          </a:p>
        </p:txBody>
      </p:sp>
      <p:sp>
        <p:nvSpPr>
          <p:cNvPr id="1212" name="Retângulo 3"/>
          <p:cNvSpPr/>
          <p:nvPr/>
        </p:nvSpPr>
        <p:spPr>
          <a:xfrm>
            <a:off x="285840" y="1071720"/>
            <a:ext cx="8429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Crenças de Desconfiança ou Abuso</a:t>
            </a:r>
            <a:endParaRPr b="0" lang="en-US" sz="3200" spc="-1" strike="noStrike">
              <a:solidFill>
                <a:srgbClr val="000000"/>
              </a:solidFill>
              <a:latin typeface="Arial"/>
            </a:endParaRPr>
          </a:p>
        </p:txBody>
      </p:sp>
      <p:sp>
        <p:nvSpPr>
          <p:cNvPr id="1213"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826560" y="-360"/>
            <a:ext cx="7921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 -Desconexão e Rejeição</a:t>
            </a:r>
            <a:endParaRPr b="0" lang="en-US" sz="3600" spc="-1" strike="noStrike">
              <a:solidFill>
                <a:srgbClr val="262626"/>
              </a:solidFill>
              <a:latin typeface="Century Gothic"/>
            </a:endParaRPr>
          </a:p>
        </p:txBody>
      </p:sp>
      <p:sp>
        <p:nvSpPr>
          <p:cNvPr id="1215" name=""/>
          <p:cNvSpPr txBox="1"/>
          <p:nvPr/>
        </p:nvSpPr>
        <p:spPr>
          <a:xfrm>
            <a:off x="468000" y="1280880"/>
            <a:ext cx="8567640" cy="55767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Privação Emocional –</a:t>
            </a:r>
            <a:r>
              <a:rPr b="0" lang="pt-BR" sz="2800" spc="-1" strike="noStrike">
                <a:solidFill>
                  <a:srgbClr val="404040"/>
                </a:solidFill>
                <a:latin typeface="Century Gothic"/>
              </a:rPr>
              <a:t> a expectativa de que o desejo da pessoa de receber o apoio emocional, em um grau normal, não será adequadamente atendida pelos outros. As três maiores formas de privação são: (a) </a:t>
            </a:r>
            <a:r>
              <a:rPr b="0" i="1" lang="pt-BR" sz="2800" spc="-1" strike="noStrike">
                <a:solidFill>
                  <a:srgbClr val="404040"/>
                </a:solidFill>
                <a:latin typeface="Century Gothic"/>
              </a:rPr>
              <a:t>Privação De Carinho</a:t>
            </a:r>
            <a:r>
              <a:rPr b="0" lang="pt-BR" sz="2800" spc="-1" strike="noStrike">
                <a:solidFill>
                  <a:srgbClr val="404040"/>
                </a:solidFill>
                <a:latin typeface="Century Gothic"/>
              </a:rPr>
              <a:t>- Ausência de atenção, afeição, carinho ou companheirismo; (b) </a:t>
            </a:r>
            <a:r>
              <a:rPr b="0" i="1" lang="pt-BR" sz="2800" spc="-1" strike="noStrike">
                <a:solidFill>
                  <a:srgbClr val="404040"/>
                </a:solidFill>
                <a:latin typeface="Century Gothic"/>
              </a:rPr>
              <a:t>Privação De Empatia</a:t>
            </a:r>
            <a:r>
              <a:rPr b="0" lang="pt-BR" sz="2800" spc="-1" strike="noStrike">
                <a:solidFill>
                  <a:srgbClr val="404040"/>
                </a:solidFill>
                <a:latin typeface="Century Gothic"/>
              </a:rPr>
              <a:t>- ausência de entendimento, escuta, auto revelação ou mutuo compartilhamento de sentimentos por parte dos outros; (c) </a:t>
            </a:r>
            <a:r>
              <a:rPr b="0" i="1" lang="pt-BR" sz="2800" spc="-1" strike="noStrike">
                <a:solidFill>
                  <a:srgbClr val="404040"/>
                </a:solidFill>
                <a:latin typeface="Century Gothic"/>
              </a:rPr>
              <a:t>Privação de Proteção</a:t>
            </a:r>
            <a:r>
              <a:rPr b="0" lang="pt-BR" sz="2800" spc="-1" strike="noStrike">
                <a:solidFill>
                  <a:srgbClr val="404040"/>
                </a:solidFill>
                <a:latin typeface="Century Gothic"/>
              </a:rPr>
              <a:t>- ausência de força, direção ou orientação por parte dos outros.</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250560" y="23400"/>
            <a:ext cx="78865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 -Desconexão e Rejeição</a:t>
            </a:r>
            <a:endParaRPr b="0" lang="en-US" sz="3600" spc="-1" strike="noStrike">
              <a:solidFill>
                <a:srgbClr val="262626"/>
              </a:solidFill>
              <a:latin typeface="Century Gothic"/>
            </a:endParaRPr>
          </a:p>
        </p:txBody>
      </p:sp>
      <p:sp>
        <p:nvSpPr>
          <p:cNvPr id="1217" name=""/>
          <p:cNvSpPr txBox="1"/>
          <p:nvPr/>
        </p:nvSpPr>
        <p:spPr>
          <a:xfrm>
            <a:off x="539280" y="1196640"/>
            <a:ext cx="8425080" cy="55450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404040"/>
                </a:solidFill>
                <a:latin typeface="Century Gothic"/>
              </a:rPr>
              <a:t>Defectividade/ Vergonha-</a:t>
            </a:r>
            <a:r>
              <a:rPr b="0" lang="pt-BR" sz="2000" spc="-1" strike="noStrike">
                <a:solidFill>
                  <a:srgbClr val="404040"/>
                </a:solidFill>
                <a:latin typeface="Century Gothic"/>
              </a:rPr>
              <a:t> o sentimento de que a pessoa é defectiva, má, indesejada, falha, inferior ou inválida em aspectos importantes, ou de que ela não seria digna do amor das pessoas significativas, se exposta. Pode envolver hipersensibilidade a criticas, rejeição e culpa; constrangimento, comparações e insegurança perto dos outros; ou um sentimento de vergonha pelas falhas percebidas em si mesma. Essas falhas podem ser privadas (por exemplo, egoísmo, impulsos raivosos, desejos sexuais inaceitáveis) ou públicas (por exemplo, aparência física indesejável, inabilidade social).</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404040"/>
                </a:solidFill>
                <a:latin typeface="Century Gothic"/>
              </a:rPr>
              <a:t>Isolamento Social/ Alienação-</a:t>
            </a:r>
            <a:r>
              <a:rPr b="0" lang="pt-BR" sz="2000" spc="-1" strike="noStrike">
                <a:solidFill>
                  <a:srgbClr val="404040"/>
                </a:solidFill>
                <a:latin typeface="Century Gothic"/>
              </a:rPr>
              <a:t> o sentimento de que a pessoa está isolada do resto do mundo, de ser diferente das outras e/ ou de não se adequar ao mundo social mais amplo, fora da família. Geralmente não se sentem pertencentes de nenhum grupo ou comunidade.</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CaixaDeTexto 2"/>
          <p:cNvSpPr/>
          <p:nvPr/>
        </p:nvSpPr>
        <p:spPr>
          <a:xfrm>
            <a:off x="857160" y="2071800"/>
            <a:ext cx="77868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sejo de pertencer ou receber apoio emocional não será satisfeito.</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usência de atenção, afeto, calor e companhia</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usência de força, direção e orientação por parte dos outr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usência de compreensão, compartilhar , ouvir por parte dos outr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nsação de ser diferente e de não pertencer</a:t>
            </a:r>
            <a:endParaRPr b="0" lang="en-US" sz="2400" spc="-1" strike="noStrike">
              <a:solidFill>
                <a:srgbClr val="000000"/>
              </a:solidFill>
              <a:latin typeface="Arial"/>
            </a:endParaRPr>
          </a:p>
        </p:txBody>
      </p:sp>
      <p:sp>
        <p:nvSpPr>
          <p:cNvPr id="1219" name="Retângulo 3"/>
          <p:cNvSpPr/>
          <p:nvPr/>
        </p:nvSpPr>
        <p:spPr>
          <a:xfrm>
            <a:off x="285840" y="1143000"/>
            <a:ext cx="8429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Crenças de Isolamento ou Privação Social</a:t>
            </a:r>
            <a:endParaRPr b="0" lang="en-US" sz="3200" spc="-1" strike="noStrike">
              <a:solidFill>
                <a:srgbClr val="000000"/>
              </a:solidFill>
              <a:latin typeface="Arial"/>
            </a:endParaRPr>
          </a:p>
        </p:txBody>
      </p:sp>
      <p:sp>
        <p:nvSpPr>
          <p:cNvPr id="1220"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CaixaDeTexto 2"/>
          <p:cNvSpPr/>
          <p:nvPr/>
        </p:nvSpPr>
        <p:spPr>
          <a:xfrm>
            <a:off x="857160" y="1928880"/>
            <a:ext cx="778680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ificuldade excessiva para expressar ou discutir sentimentos (feridas, tristezas, alegria, raiva, excitação sexual, et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presenta-se como embotado, constrito, inibido, sem emoções, sem calor humano ou espontaneidade.</a:t>
            </a:r>
            <a:endParaRPr b="0" lang="en-US" sz="2400" spc="-1" strike="noStrike">
              <a:solidFill>
                <a:srgbClr val="000000"/>
              </a:solidFill>
              <a:latin typeface="Arial"/>
            </a:endParaRPr>
          </a:p>
        </p:txBody>
      </p:sp>
      <p:sp>
        <p:nvSpPr>
          <p:cNvPr id="1222" name="Retângulo 3"/>
          <p:cNvSpPr/>
          <p:nvPr/>
        </p:nvSpPr>
        <p:spPr>
          <a:xfrm>
            <a:off x="285840" y="1071720"/>
            <a:ext cx="8429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Crenças de Inibição Social</a:t>
            </a:r>
            <a:endParaRPr b="0" lang="en-US" sz="3200" spc="-1" strike="noStrike">
              <a:solidFill>
                <a:srgbClr val="000000"/>
              </a:solidFill>
              <a:latin typeface="Arial"/>
            </a:endParaRPr>
          </a:p>
        </p:txBody>
      </p:sp>
      <p:sp>
        <p:nvSpPr>
          <p:cNvPr id="1223" name="PlaceHolder 1"/>
          <p:cNvSpPr>
            <a:spLocks noGrp="1"/>
          </p:cNvSpPr>
          <p:nvPr>
            <p:ph type="title"/>
          </p:nvPr>
        </p:nvSpPr>
        <p:spPr>
          <a:xfrm>
            <a:off x="0" y="152280"/>
            <a:ext cx="8229600" cy="6098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se esquema foi retirado no novo questionário de 2008</a:t>
            </a:r>
            <a:endParaRPr b="0" lang="en-US" sz="24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250920" y="115920"/>
            <a:ext cx="8246880" cy="720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200" spc="-1" strike="noStrike">
                <a:solidFill>
                  <a:srgbClr val="262626"/>
                </a:solidFill>
                <a:latin typeface="Century Gothic"/>
              </a:rPr>
              <a:t>Domínio II- Autonomia e Desempenho Prejudicados</a:t>
            </a:r>
            <a:endParaRPr b="0" lang="en-US" sz="3200" spc="-1" strike="noStrike">
              <a:solidFill>
                <a:srgbClr val="262626"/>
              </a:solidFill>
              <a:latin typeface="Century Gothic"/>
            </a:endParaRPr>
          </a:p>
        </p:txBody>
      </p:sp>
      <p:sp>
        <p:nvSpPr>
          <p:cNvPr id="1225" name=""/>
          <p:cNvSpPr txBox="1"/>
          <p:nvPr/>
        </p:nvSpPr>
        <p:spPr>
          <a:xfrm>
            <a:off x="468000" y="1196640"/>
            <a:ext cx="8496360" cy="5661000"/>
          </a:xfrm>
          <a:prstGeom prst="rect">
            <a:avLst/>
          </a:prstGeom>
          <a:noFill/>
          <a:ln w="0">
            <a:noFill/>
          </a:ln>
        </p:spPr>
        <p:txBody>
          <a:bodyPr anchor="t">
            <a:normAutofit/>
          </a:bodyPr>
          <a:p>
            <a:pPr marL="343080" indent="-343080">
              <a:lnSpc>
                <a:spcPct val="9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entury Gothic"/>
              </a:rPr>
              <a:t>Autonomia é a capacidade de separar-se da própria família e funcionar de forma independente, no nível de pessoas da mesma idade. Os indivíduos com esquemas nesse domínio têm expectativas sobre si próprios e sobre o mundo, que interferem em sua capacidade de se diferenciar das figuras paternas ou maternas e funcionar de forma independente ou de separa-se, sobreviver, funcionar independentemente ou ter um bom desempenho. Quando crianças, na maioria dos casos, os pais lhes satisfaziam todas as vontades e os superprotegiam, ou no extremo oposto (muito mais raro), quase nunca os cuidavam nem se responsabilizavam por eles. (Ambos extremos levam a problemas na esfera da autonomia). Com frequência, os pais solaparam sua autoconfiança e não reforçaram os filhos para que tivessem um desempenho competente fora de casa. Como resultado a criança quando adultos se tornam incapazes de moldar suas próprias identidades e criar suas próprias vidas, nem de estabelecer objetivos pessoais e dominar suas habilidades necessárias. Com relação a competência, permanecem crianças durante boa parte de suas vidas adultas. A família de origem é tipicamente emaranhada, abala a confiança da criança em si mesma, é superprotetora ou não consegue reforçar a criança para ter um desempenho competente fora da família.</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258560" y="-360"/>
            <a:ext cx="7705800" cy="1268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I- Autonomia e Desempenho Prejudicados</a:t>
            </a:r>
            <a:endParaRPr b="0" lang="en-US" sz="3600" spc="-1" strike="noStrike">
              <a:solidFill>
                <a:srgbClr val="262626"/>
              </a:solidFill>
              <a:latin typeface="Century Gothic"/>
            </a:endParaRPr>
          </a:p>
        </p:txBody>
      </p:sp>
      <p:sp>
        <p:nvSpPr>
          <p:cNvPr id="1227" name=""/>
          <p:cNvSpPr txBox="1"/>
          <p:nvPr/>
        </p:nvSpPr>
        <p:spPr>
          <a:xfrm>
            <a:off x="684000" y="1557360"/>
            <a:ext cx="8280360" cy="49672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Dependência/ Incompetência- </a:t>
            </a:r>
            <a:r>
              <a:rPr b="0" lang="pt-BR" sz="2800" spc="-1" strike="noStrike">
                <a:solidFill>
                  <a:srgbClr val="404040"/>
                </a:solidFill>
                <a:latin typeface="Century Gothic"/>
              </a:rPr>
              <a:t>a crença de ser incapaz de manejar as responsabilidades diárias de maneira competente, sem considerável ajuda dos outros (por exemplo, cuidar de si mesma, resolver os problemas do cotidiano, exercer julgamentos corretos, assumir tarefas novas, tomar boas decisões acertadas, lidar com dinheiro), muitas vezes, apresenta-se como desamparo, e apresentam-se como passividade ou impotência generalizada.</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30"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ndParaRPr>
          </a:p>
        </p:txBody>
      </p:sp>
      <p:sp>
        <p:nvSpPr>
          <p:cNvPr id="1231" name="Retângulo 6"/>
          <p:cNvSpPr/>
          <p:nvPr/>
        </p:nvSpPr>
        <p:spPr>
          <a:xfrm>
            <a:off x="1270800" y="1285920"/>
            <a:ext cx="6523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2eb1"/>
                </a:solidFill>
                <a:latin typeface="Century Gothic"/>
              </a:rPr>
              <a:t>Crenças de Dependência e Incompetência</a:t>
            </a:r>
            <a:endParaRPr b="0" lang="en-US" sz="2400" spc="-1" strike="noStrike">
              <a:solidFill>
                <a:srgbClr val="000000"/>
              </a:solidFill>
              <a:latin typeface="Arial"/>
            </a:endParaRPr>
          </a:p>
        </p:txBody>
      </p:sp>
      <p:sp>
        <p:nvSpPr>
          <p:cNvPr id="1232" name="Retângulo 7"/>
          <p:cNvSpPr/>
          <p:nvPr/>
        </p:nvSpPr>
        <p:spPr>
          <a:xfrm>
            <a:off x="642960" y="2071800"/>
            <a:ext cx="778680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rença de que se é incapaz de lidar com as responsabilidades cotidianas de modo competente, sem necessitar da ajuda dos outro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ificuldade para cuidar de si prórpio, solucionar problemas, tomar decisões, assumir compromissos novos, etc.</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evalência de comportamento passivo e crença de desampa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0" y="152280"/>
            <a:ext cx="8229600" cy="6098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squemas Cognitivos</a:t>
            </a:r>
            <a:endParaRPr b="0" lang="en-US" sz="2900" spc="-1" strike="noStrike">
              <a:solidFill>
                <a:srgbClr val="262626"/>
              </a:solidFill>
              <a:latin typeface="Century Gothic"/>
            </a:endParaRPr>
          </a:p>
        </p:txBody>
      </p:sp>
      <p:sp>
        <p:nvSpPr>
          <p:cNvPr id="1179" name="Espaço Reservado para Número de Slide 3"/>
          <p:cNvSpPr/>
          <p:nvPr/>
        </p:nvSpPr>
        <p:spPr>
          <a:xfrm>
            <a:off x="6553080" y="54291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2CCE-E774-4AF1-9BDF-6B33E95ACC60}" type="slidenum">
              <a:rPr b="0" lang="pt-BR" sz="1200" spc="-1" strike="noStrike">
                <a:solidFill>
                  <a:srgbClr val="002060"/>
                </a:solidFill>
                <a:latin typeface="Calibri"/>
              </a:rPr>
              <a:t>&lt;number&gt;</a:t>
            </a:fld>
            <a:endParaRPr b="0" lang="en-US" sz="1200" spc="-1" strike="noStrike">
              <a:solidFill>
                <a:srgbClr val="000000"/>
              </a:solidFill>
              <a:latin typeface="Arial"/>
            </a:endParaRPr>
          </a:p>
        </p:txBody>
      </p:sp>
      <p:sp>
        <p:nvSpPr>
          <p:cNvPr id="1180" name="Retângulo 5"/>
          <p:cNvSpPr/>
          <p:nvPr/>
        </p:nvSpPr>
        <p:spPr>
          <a:xfrm>
            <a:off x="1000080" y="1643040"/>
            <a:ext cx="6929640" cy="402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squemas são estruturas cognitivas com conteúdos (crenças). Como estruturas mentais que contêm armazenadas as representações de significados, esquemas são fundamentais para orientar a seleção, codificação, organização, armazenamento e recuperação de informações de dentro do aparato cognitivo. Além do mais, esquemas têm uma estrutura interna consistente que ordena novas informações que entram no sistema nervoso cognitiv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Williams, 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1918800" y="189000"/>
            <a:ext cx="658980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I- Autonomia e Desempenho Prejudicados</a:t>
            </a:r>
            <a:endParaRPr b="0" lang="en-US" sz="3600" spc="-1" strike="noStrike">
              <a:solidFill>
                <a:srgbClr val="262626"/>
              </a:solidFill>
              <a:latin typeface="Century Gothic"/>
            </a:endParaRPr>
          </a:p>
        </p:txBody>
      </p:sp>
      <p:sp>
        <p:nvSpPr>
          <p:cNvPr id="1234" name=""/>
          <p:cNvSpPr txBox="1"/>
          <p:nvPr/>
        </p:nvSpPr>
        <p:spPr>
          <a:xfrm>
            <a:off x="395280" y="1469520"/>
            <a:ext cx="8569440" cy="50547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Vulnerabilidade ao Dano ou Doença-</a:t>
            </a:r>
            <a:r>
              <a:rPr b="0" lang="pt-BR" sz="2800" spc="-1" strike="noStrike">
                <a:solidFill>
                  <a:srgbClr val="404040"/>
                </a:solidFill>
                <a:latin typeface="Century Gothic"/>
              </a:rPr>
              <a:t> medo exagerado de que uma catástrofe aconteça a qualquer momento e de que não será capaz de enfrenta-la. Os medos podem ser: (a) </a:t>
            </a:r>
            <a:r>
              <a:rPr b="0" i="1" lang="pt-BR" sz="2800" spc="-1" strike="noStrike">
                <a:solidFill>
                  <a:srgbClr val="404040"/>
                </a:solidFill>
                <a:latin typeface="Century Gothic"/>
              </a:rPr>
              <a:t>Catástrofes Médicas</a:t>
            </a:r>
            <a:r>
              <a:rPr b="0" lang="pt-BR" sz="2800" spc="-1" strike="noStrike">
                <a:solidFill>
                  <a:srgbClr val="404040"/>
                </a:solidFill>
                <a:latin typeface="Century Gothic"/>
              </a:rPr>
              <a:t>- por exemplo, ataques cardíacos, AIDS, cancêr; (b) </a:t>
            </a:r>
            <a:r>
              <a:rPr b="0" i="1" lang="pt-BR" sz="2800" spc="-1" strike="noStrike">
                <a:solidFill>
                  <a:srgbClr val="404040"/>
                </a:solidFill>
                <a:latin typeface="Century Gothic"/>
              </a:rPr>
              <a:t>Catástrofes Emocionais</a:t>
            </a:r>
            <a:r>
              <a:rPr b="0" lang="pt-BR" sz="2800" spc="-1" strike="noStrike">
                <a:solidFill>
                  <a:srgbClr val="404040"/>
                </a:solidFill>
                <a:latin typeface="Century Gothic"/>
              </a:rPr>
              <a:t>- por exemplo, enlouquecer, perder o controle; (c) </a:t>
            </a:r>
            <a:r>
              <a:rPr b="0" i="1" lang="pt-BR" sz="2800" spc="-1" strike="noStrike">
                <a:solidFill>
                  <a:srgbClr val="404040"/>
                </a:solidFill>
                <a:latin typeface="Century Gothic"/>
              </a:rPr>
              <a:t>Catástrofes Externas- </a:t>
            </a:r>
            <a:r>
              <a:rPr b="0" lang="pt-BR" sz="2800" spc="-1" strike="noStrike">
                <a:solidFill>
                  <a:srgbClr val="404040"/>
                </a:solidFill>
                <a:latin typeface="Century Gothic"/>
              </a:rPr>
              <a:t>por exemplo, o elevador despencar, ser vitima de criminosos, o avião cair, terremoto, enfim, crimes, acidentes e catástrofes naturais.</a:t>
            </a:r>
            <a:endParaRPr b="0" lang="en-US" sz="28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37"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a typeface="Arial"/>
            </a:endParaRPr>
          </a:p>
        </p:txBody>
      </p:sp>
      <p:sp>
        <p:nvSpPr>
          <p:cNvPr id="1238" name="Retângulo 6"/>
          <p:cNvSpPr/>
          <p:nvPr/>
        </p:nvSpPr>
        <p:spPr>
          <a:xfrm>
            <a:off x="2581920" y="1214280"/>
            <a:ext cx="3634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renças de Vulnerabilidade</a:t>
            </a:r>
            <a:endParaRPr b="0" lang="en-US" sz="2400" spc="-1" strike="noStrike">
              <a:solidFill>
                <a:srgbClr val="000000"/>
              </a:solidFill>
              <a:latin typeface="Arial"/>
            </a:endParaRPr>
          </a:p>
        </p:txBody>
      </p:sp>
      <p:sp>
        <p:nvSpPr>
          <p:cNvPr id="1239" name="Retângulo 7"/>
          <p:cNvSpPr/>
          <p:nvPr/>
        </p:nvSpPr>
        <p:spPr>
          <a:xfrm>
            <a:off x="571680" y="2214720"/>
            <a:ext cx="7929360" cy="356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edo exagerado de que uma catástrofe acontecerá a qualquer momento e de que não se tem recursos para lidar com ela ou preveni-la.</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edo de uma doença.</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edos emocionais (ficar louco, perder o controle).</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edos financeiros (falência, ruína).</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edos gerais (elevador, crime, avião, terremo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1835280" y="115560"/>
            <a:ext cx="65894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I- Autonomia e Desempenho Prejudicados</a:t>
            </a:r>
            <a:endParaRPr b="0" lang="en-US" sz="3600" spc="-1" strike="noStrike">
              <a:solidFill>
                <a:srgbClr val="262626"/>
              </a:solidFill>
              <a:latin typeface="Century Gothic"/>
            </a:endParaRPr>
          </a:p>
        </p:txBody>
      </p:sp>
      <p:sp>
        <p:nvSpPr>
          <p:cNvPr id="1241" name=""/>
          <p:cNvSpPr txBox="1"/>
          <p:nvPr/>
        </p:nvSpPr>
        <p:spPr>
          <a:xfrm>
            <a:off x="250560" y="1396800"/>
            <a:ext cx="8893080" cy="54608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Emaranhamento/ Self Subdesenvolvido- </a:t>
            </a:r>
            <a:r>
              <a:rPr b="0" lang="pt-BR" sz="2400" spc="-1" strike="noStrike">
                <a:solidFill>
                  <a:srgbClr val="404040"/>
                </a:solidFill>
                <a:latin typeface="Century Gothic"/>
              </a:rPr>
              <a:t>excessivo envolvimento emocional e proximidade com uma ou mais pessoas significativas (frequentemente os pais), à custa da individuação plena ou do desenvolvimento social normal. Muitas vezes, envolve a crença de que, pelo menos, uma das pessoas emaranhadas não pode sobreviver ou ser feliz sem o constante apoio da outra. Também pode incluir sentimentos de ser sufocado ou estar fundido com o outro, ou de insuficiente identidade individual. Frequentemente experienciado como um sentimento de vazio e desajeitamento, de não ter direção ou, em casos extremos, de questionamento da própria existência.</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44"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a typeface="Arial"/>
            </a:endParaRPr>
          </a:p>
        </p:txBody>
      </p:sp>
      <p:sp>
        <p:nvSpPr>
          <p:cNvPr id="1245" name="Retângulo 8"/>
          <p:cNvSpPr/>
          <p:nvPr/>
        </p:nvSpPr>
        <p:spPr>
          <a:xfrm>
            <a:off x="1214280" y="1071720"/>
            <a:ext cx="6786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Crenças de Emaranhament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Enredamento ou pouca Individuação</a:t>
            </a:r>
            <a:endParaRPr b="0" lang="en-US" sz="2000" spc="-1" strike="noStrike">
              <a:solidFill>
                <a:srgbClr val="000000"/>
              </a:solidFill>
              <a:latin typeface="Arial"/>
            </a:endParaRPr>
          </a:p>
        </p:txBody>
      </p:sp>
      <p:sp>
        <p:nvSpPr>
          <p:cNvPr id="1246" name="Retângulo 9"/>
          <p:cNvSpPr/>
          <p:nvPr/>
        </p:nvSpPr>
        <p:spPr>
          <a:xfrm>
            <a:off x="642960" y="2357280"/>
            <a:ext cx="7858080" cy="370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volvimento emocional ou proximidade excessivos às custas da individuação ou desenvolvimento social normal.</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nça de que pelo menos um na relação não pode sobreviver ou ser feliz sozinho, sem o apoio constante do outr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ntimento de ser sufocado ou de estar fundido com o outr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lta de individualidade e direção intern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nsação de vaz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692360" y="234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Domínio II- Autonomia e Desempenho Prejudicados</a:t>
            </a:r>
            <a:endParaRPr b="0" lang="en-US" sz="3600" spc="-1" strike="noStrike">
              <a:solidFill>
                <a:srgbClr val="262626"/>
              </a:solidFill>
              <a:latin typeface="Century Gothic"/>
            </a:endParaRPr>
          </a:p>
        </p:txBody>
      </p:sp>
      <p:sp>
        <p:nvSpPr>
          <p:cNvPr id="1248" name=""/>
          <p:cNvSpPr txBox="1"/>
          <p:nvPr/>
        </p:nvSpPr>
        <p:spPr>
          <a:xfrm>
            <a:off x="684000" y="1305000"/>
            <a:ext cx="8280360" cy="5364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Fracasso-</a:t>
            </a:r>
            <a:r>
              <a:rPr b="0" lang="pt-BR" sz="2800" spc="-1" strike="noStrike">
                <a:solidFill>
                  <a:srgbClr val="404040"/>
                </a:solidFill>
                <a:latin typeface="Century Gothic"/>
              </a:rPr>
              <a:t> a crença de ter falhado, de que inevitavelmente fracassará ou de ser fundamentalmente inadequada em relação aos iguais, em áreas de realização (escola, carreira, esportes, etc.) e na própria inadequação em termos de realizações nessas atividades, em comparação com outras pessoas que realizam. Em muitos casos, envolve a crença de ser burra, inapta, sem talento, ignorante, de ter menos status e sucesso do que as outras pessoas, e assim por diante</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51"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a typeface="Arial"/>
            </a:endParaRPr>
          </a:p>
        </p:txBody>
      </p:sp>
      <p:sp>
        <p:nvSpPr>
          <p:cNvPr id="1252" name="Retângulo 6"/>
          <p:cNvSpPr/>
          <p:nvPr/>
        </p:nvSpPr>
        <p:spPr>
          <a:xfrm>
            <a:off x="3363480" y="1285920"/>
            <a:ext cx="27090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renças de Fracasso</a:t>
            </a:r>
            <a:endParaRPr b="0" lang="en-US" sz="2400" spc="-1" strike="noStrike">
              <a:solidFill>
                <a:srgbClr val="000000"/>
              </a:solidFill>
              <a:latin typeface="Arial"/>
            </a:endParaRPr>
          </a:p>
        </p:txBody>
      </p:sp>
      <p:sp>
        <p:nvSpPr>
          <p:cNvPr id="1253" name="Retângulo 7"/>
          <p:cNvSpPr/>
          <p:nvPr/>
        </p:nvSpPr>
        <p:spPr>
          <a:xfrm>
            <a:off x="928800" y="2286000"/>
            <a:ext cx="73580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rença de que fracassou ou que fracassar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sidera-se inadequado quando se compara aos colegas (escola, trabalho, esporte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sidera-se burro, incapaz, inepto, sem talento, ignorante, sem status, mal suced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468000" y="-360"/>
            <a:ext cx="8567640" cy="1268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600" spc="-1" strike="noStrike">
                <a:solidFill>
                  <a:srgbClr val="262626"/>
                </a:solidFill>
                <a:latin typeface="Century Gothic"/>
              </a:rPr>
              <a:t>LIMITES PREJUDICADOS (DOMÍNIO III)</a:t>
            </a:r>
            <a:endParaRPr b="0" lang="en-US" sz="3600" spc="-1" strike="noStrike">
              <a:solidFill>
                <a:srgbClr val="262626"/>
              </a:solidFill>
              <a:latin typeface="Century Gothic"/>
            </a:endParaRPr>
          </a:p>
        </p:txBody>
      </p:sp>
      <p:sp>
        <p:nvSpPr>
          <p:cNvPr id="1255" name=""/>
          <p:cNvSpPr txBox="1"/>
          <p:nvPr/>
        </p:nvSpPr>
        <p:spPr>
          <a:xfrm>
            <a:off x="445680" y="1267920"/>
            <a:ext cx="8893080" cy="63104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entury Gothic"/>
              </a:rPr>
              <a:t>Esquemas com este domínio não desenvolveram limites internos adequados em relação a reciprocidade ou autodisciplina e podem ter dificuldade de respeitar os direitos de terceiros, cooperar, responsabilidade com os outros ou orientação para objetivos de longo prazo. Leva à dificuldade de respeitar os direitos dos outros, cooperar com eles, comprometer-se ou estabelecer e cumprir metas pessoais. (o arrogo pode, às vezes, constituir-se em uma forma de hipercompensação de outros esquemas como privação emociona. Nesses casos, o excesso de tolerância não costuma ser a origem primeira). A família de origem é tipicamente caracterizada por permissividade, excesso de indulgencia, falta de direção ou um senso de superioridade – em vez de confrontação, disciplina e limites apropriados em relação a assumir responsabilidades, cooperar de maneira recíproca e estabelecer metas. Em alguns casos a criança não foi obrigada a tolerar níveis normais de desconforto ou não recebeu supervisão, direção ou orientação adequadas. Quando crianças não lhes foram exigidos que seguissem as regras aplicadas a todas as outras pessoas, que considerassem os demais ou que desenvolvessem autocontrole. Como adultos, carecem da capacidade de restringir seus impulsos e de postergar a gratificação em função de benefícios futuro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324000" y="26640"/>
            <a:ext cx="8820000" cy="1098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600" spc="-1" strike="noStrike">
                <a:solidFill>
                  <a:srgbClr val="262626"/>
                </a:solidFill>
                <a:latin typeface="Century Gothic"/>
              </a:rPr>
              <a:t>LIMITES PREJUDICADOS (DOMÍNIO III)</a:t>
            </a:r>
            <a:endParaRPr b="0" lang="en-US" sz="3600" spc="-1" strike="noStrike">
              <a:solidFill>
                <a:srgbClr val="262626"/>
              </a:solidFill>
              <a:latin typeface="Century Gothic"/>
            </a:endParaRPr>
          </a:p>
        </p:txBody>
      </p:sp>
      <p:sp>
        <p:nvSpPr>
          <p:cNvPr id="1257" name=""/>
          <p:cNvSpPr txBox="1"/>
          <p:nvPr/>
        </p:nvSpPr>
        <p:spPr>
          <a:xfrm>
            <a:off x="0" y="1125360"/>
            <a:ext cx="8964720" cy="5732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200" spc="-1" strike="noStrike">
                <a:solidFill>
                  <a:srgbClr val="404040"/>
                </a:solidFill>
                <a:latin typeface="Century Gothic"/>
              </a:rPr>
              <a:t>Merecimento/ Grandiosidade/ arrogo- </a:t>
            </a:r>
            <a:r>
              <a:rPr b="0" lang="pt-BR" sz="2200" spc="-1" strike="noStrike">
                <a:solidFill>
                  <a:srgbClr val="404040"/>
                </a:solidFill>
                <a:latin typeface="Century Gothic"/>
              </a:rPr>
              <a:t> a crença de ser superior às outras pessoas, de merecer direitos ou privilégios especiais, ou de não ter de obedecer às regras de reciprocidade que orientam a interação social. Geralmente, envolve insistência em fazer ou ter tudo o que quiser, independentemente do que é realista, do que os outros consideram razoável, à custa dos outros; ou um foco exagerado na superioridade (por exemplo, estar entre os mais bem-sucedidos, famosos ou ricos) – a fim de ter poder ou controle (não tanto por atenção ou aprovação). Às vezes, inclui excessiva competitividade ou dominação em relação aos outros: afirmar o próprio poder, obrigar os outros a ter o mesmo ponto de vista ou controlar o comportamento dos outros de acordo com os próprios desejos, sem empatia ou preocupação com as necessidades ou os sentimentos dos outros.</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60"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pt-BR" sz="2400" spc="-1" strike="noStrike">
              <a:solidFill>
                <a:srgbClr val="000000"/>
              </a:solidFill>
              <a:latin typeface="Calibri"/>
            </a:endParaRPr>
          </a:p>
        </p:txBody>
      </p:sp>
      <p:sp>
        <p:nvSpPr>
          <p:cNvPr id="1261" name="Retângulo 7"/>
          <p:cNvSpPr/>
          <p:nvPr/>
        </p:nvSpPr>
        <p:spPr>
          <a:xfrm>
            <a:off x="1967040" y="1357200"/>
            <a:ext cx="5176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drões de Crenças: Merecimento</a:t>
            </a:r>
            <a:endParaRPr b="0" lang="en-US" sz="2400" spc="-1" strike="noStrike">
              <a:solidFill>
                <a:srgbClr val="000000"/>
              </a:solidFill>
              <a:latin typeface="Arial"/>
            </a:endParaRPr>
          </a:p>
        </p:txBody>
      </p:sp>
      <p:sp>
        <p:nvSpPr>
          <p:cNvPr id="1262" name="Retângulo 9"/>
          <p:cNvSpPr/>
          <p:nvPr/>
        </p:nvSpPr>
        <p:spPr>
          <a:xfrm>
            <a:off x="642960" y="2357280"/>
            <a:ext cx="8072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Insistência em fazer ou receber o que deseja, sem levar em conta o custo e motivos dos outr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Controle excessivo dos outros, exigências descab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Falta de empatia pelas necessidades e sentimentos dos ou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324000" y="9000"/>
            <a:ext cx="8640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600" spc="-1" strike="noStrike">
                <a:solidFill>
                  <a:srgbClr val="262626"/>
                </a:solidFill>
                <a:latin typeface="Century Gothic"/>
              </a:rPr>
              <a:t>LIMITES PREJUDICADOS (DOMÍNIO III)</a:t>
            </a:r>
            <a:endParaRPr b="0" lang="en-US" sz="3600" spc="-1" strike="noStrike">
              <a:solidFill>
                <a:srgbClr val="262626"/>
              </a:solidFill>
              <a:latin typeface="Century Gothic"/>
            </a:endParaRPr>
          </a:p>
        </p:txBody>
      </p:sp>
      <p:sp>
        <p:nvSpPr>
          <p:cNvPr id="1264" name=""/>
          <p:cNvSpPr txBox="1"/>
          <p:nvPr/>
        </p:nvSpPr>
        <p:spPr>
          <a:xfrm>
            <a:off x="324000" y="1413000"/>
            <a:ext cx="8640720" cy="5256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404040"/>
                </a:solidFill>
                <a:latin typeface="Century Gothic"/>
              </a:rPr>
              <a:t> </a:t>
            </a:r>
            <a:r>
              <a:rPr b="1" lang="pt-BR" sz="2400" spc="-1" strike="noStrike">
                <a:solidFill>
                  <a:srgbClr val="404040"/>
                </a:solidFill>
                <a:latin typeface="Century Gothic"/>
              </a:rPr>
              <a:t>Autocontrole/ Autodisciplina Insuficientes-</a:t>
            </a:r>
            <a:r>
              <a:rPr b="0" lang="pt-BR" sz="2400" spc="-1" strike="noStrike">
                <a:solidFill>
                  <a:srgbClr val="404040"/>
                </a:solidFill>
                <a:latin typeface="Century Gothic"/>
              </a:rPr>
              <a:t> Dificuldade ou recusa de exercitar suficiente autocontrole e tolerância a frustração ao buscar metas pessoais, ou de restringir a expressão excessiva das emoções e dos impulsos. Em sua forma mais branda, o paciente apresenta uma ênfase exagerada na evitação do desconforto, à custa da realização pessoal, comprometimento ou integridade. Esses indivíduos não regulam a expressão de suas emoções e impulsos. Evitam, por exemplo, a maior parte dos conflitos e responsabilidad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Esquemas Cognitivos</a:t>
            </a:r>
            <a:endParaRPr b="0" lang="en-US" sz="3400" spc="-1" strike="noStrike">
              <a:solidFill>
                <a:srgbClr val="262626"/>
              </a:solidFill>
              <a:latin typeface="Century Gothic"/>
            </a:endParaRPr>
          </a:p>
        </p:txBody>
      </p:sp>
      <p:sp>
        <p:nvSpPr>
          <p:cNvPr id="1182" name=""/>
          <p:cNvSpPr txBox="1"/>
          <p:nvPr/>
        </p:nvSpPr>
        <p:spPr>
          <a:xfrm>
            <a:off x="1942920" y="2133360"/>
            <a:ext cx="6591240" cy="3778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alibri"/>
              </a:rPr>
              <a:t>     </a:t>
            </a:r>
            <a:r>
              <a:rPr b="0" lang="pt-BR" sz="2400" spc="-1" strike="noStrike">
                <a:solidFill>
                  <a:srgbClr val="404040"/>
                </a:solidFill>
                <a:latin typeface="Calibri"/>
              </a:rPr>
              <a:t>Os esquemas são estruturas cognitivas que organizam e processam a entrada de informação e representam os padrões de pensamento adquiridos na infância no desenvolvimento de uma pessoa. Erros lógicos adquiridos durante o período de desenvolvimento vão formar a substância do esquema e predispor o indivíduo a ter problemas emocionais. Enquanto o esquema de um indivíduo bem ajustado faz concessões para a avaliação realista de eventos da vida, o esquema de indivíduos mal ajustados resulta na distorção da realidade e facilita o transtorno psicológico.</a:t>
            </a:r>
            <a:r>
              <a:rPr b="0" lang="pt-BR" sz="2100" spc="-1" strike="noStrike">
                <a:solidFill>
                  <a:srgbClr val="404040"/>
                </a:solidFill>
                <a:latin typeface="Century Gothic"/>
              </a:rPr>
              <a:t> </a:t>
            </a:r>
            <a:endParaRPr b="0" lang="en-US" sz="2100" spc="-1" strike="noStrike">
              <a:solidFill>
                <a:srgbClr val="404040"/>
              </a:solidFill>
              <a:latin typeface="Century Gothic"/>
            </a:endParaRPr>
          </a:p>
        </p:txBody>
      </p:sp>
      <p:sp>
        <p:nvSpPr>
          <p:cNvPr id="1183" name="Text Box 4"/>
          <p:cNvSpPr/>
          <p:nvPr/>
        </p:nvSpPr>
        <p:spPr>
          <a:xfrm>
            <a:off x="5219640" y="5516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1800" spc="-1" strike="noStrike">
                <a:solidFill>
                  <a:srgbClr val="000000"/>
                </a:solidFill>
                <a:latin typeface="Calibri"/>
                <a:ea typeface="Arial"/>
              </a:rPr>
              <a:t>Keith S. Dobson &amp; Lory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67"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pt-BR" sz="2400" spc="-1" strike="noStrike">
              <a:solidFill>
                <a:srgbClr val="000000"/>
              </a:solidFill>
              <a:latin typeface="Calibri"/>
            </a:endParaRPr>
          </a:p>
        </p:txBody>
      </p:sp>
      <p:sp>
        <p:nvSpPr>
          <p:cNvPr id="1268" name="Retângulo 7"/>
          <p:cNvSpPr/>
          <p:nvPr/>
        </p:nvSpPr>
        <p:spPr>
          <a:xfrm>
            <a:off x="1020240" y="1357200"/>
            <a:ext cx="7200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renças de Autocontrole ou autodisciplina insuficientes</a:t>
            </a:r>
            <a:endParaRPr b="0" lang="en-US" sz="2400" spc="-1" strike="noStrike">
              <a:solidFill>
                <a:srgbClr val="000000"/>
              </a:solidFill>
              <a:latin typeface="Arial"/>
            </a:endParaRPr>
          </a:p>
        </p:txBody>
      </p:sp>
      <p:sp>
        <p:nvSpPr>
          <p:cNvPr id="1269" name="Retângulo 9"/>
          <p:cNvSpPr/>
          <p:nvPr/>
        </p:nvSpPr>
        <p:spPr>
          <a:xfrm>
            <a:off x="642960" y="2357280"/>
            <a:ext cx="8072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Dificuldade em manter  auto-cont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Intolerância à frustraçã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pressão excessiva de emoções e impul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178920" y="-3600"/>
            <a:ext cx="83552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600" spc="-1" strike="noStrike">
                <a:solidFill>
                  <a:srgbClr val="262626"/>
                </a:solidFill>
                <a:latin typeface="Century Gothic"/>
              </a:rPr>
              <a:t>ORIENTAÇÃO PARA O OUTRO (DOMÍNIO IV)</a:t>
            </a:r>
            <a:endParaRPr b="0" lang="en-US" sz="3600" spc="-1" strike="noStrike">
              <a:solidFill>
                <a:srgbClr val="262626"/>
              </a:solidFill>
              <a:latin typeface="Century Gothic"/>
            </a:endParaRPr>
          </a:p>
        </p:txBody>
      </p:sp>
      <p:sp>
        <p:nvSpPr>
          <p:cNvPr id="1271" name=""/>
          <p:cNvSpPr txBox="1"/>
          <p:nvPr/>
        </p:nvSpPr>
        <p:spPr>
          <a:xfrm>
            <a:off x="250560" y="1125000"/>
            <a:ext cx="8713800" cy="5543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um foco excessivo nos desejos, sentimentos e respostas dos outros, à custa das próprias necessidades a fim de obter amor e aprovação, manter o sentimento de conexão emocional ou evitar retaliação. Quando interagem com outras pessoas, tendem a se concentrarem exclusivamente nas solicitações destas em detrimento de suas próprias necessidades e por vezes, envolve a supressão e ausência de consciência da própria raiva e das inclinações naturais. Quando crianças não eram livres para seguir as próprias inclinações. Como adultos, em lugar de se voltarem para si, voltam-se para fora e seguem os desejos alheios. A família de origem é tipicamente baseada na aceitação condicional: as crianças precisam suprimir aspectos importantes de si mesmas a fim de obter amor, atenção e aprovação. Em muitas dessas famílias, as necessidades e os desejos emocionais dos pais – ou aceitação e status social – são mais valorizados do que as necessidades e os sentimentos de cada criança. Como manter a “aparência” e não demonstrar as necessidades emocionais.</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108000" y="23400"/>
            <a:ext cx="9036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200" spc="-1" strike="noStrike">
                <a:solidFill>
                  <a:srgbClr val="262626"/>
                </a:solidFill>
                <a:latin typeface="Century Gothic"/>
              </a:rPr>
              <a:t>ORIENTAÇÃO PARA O OUTRO-DOMÍNIO IV</a:t>
            </a:r>
            <a:endParaRPr b="0" lang="en-US" sz="3200" spc="-1" strike="noStrike">
              <a:solidFill>
                <a:srgbClr val="262626"/>
              </a:solidFill>
              <a:latin typeface="Century Gothic"/>
            </a:endParaRPr>
          </a:p>
        </p:txBody>
      </p:sp>
      <p:sp>
        <p:nvSpPr>
          <p:cNvPr id="1273" name=""/>
          <p:cNvSpPr txBox="1"/>
          <p:nvPr/>
        </p:nvSpPr>
        <p:spPr>
          <a:xfrm>
            <a:off x="539640" y="1304640"/>
            <a:ext cx="8353440" cy="5553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404040"/>
                </a:solidFill>
                <a:latin typeface="Century Gothic"/>
              </a:rPr>
              <a:t>Subjugação- </a:t>
            </a:r>
            <a:r>
              <a:rPr b="0" lang="pt-BR" sz="2000" spc="-1" strike="noStrike">
                <a:solidFill>
                  <a:srgbClr val="404040"/>
                </a:solidFill>
                <a:latin typeface="Century Gothic"/>
              </a:rPr>
              <a:t>Excessiva submissão ao controle dos outros por sentir-se coagido – normalmente para evitar raiva, retaliação ou abandono. As duas maiores formas de subjugação são: (a) subjugação das necessidades – supressão das preferencias, decisões e desejos pessoais; (b) subjugação das emoções – supressão da expressão emocional, especialmente a raiva. Envolve a percepção de que os próprios desejos, opiniões e sentimentos não são válidos ou importantes para os outros. Comumente, apresenta-se como obediência excessiva, combinada com hipersensibilidade a sentir-se encurralado. Pode levar, também, à escalação da raiva, manifestada em sintomas Desadaptativos (por exemplo, comportamento passivo agressivo, explosões descontroladas de raiva, sintomas psicossomáticos, retirada da afeição, “atuação”, abuso de substancias).</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76"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a typeface="Arial"/>
            </a:endParaRPr>
          </a:p>
        </p:txBody>
      </p:sp>
      <p:sp>
        <p:nvSpPr>
          <p:cNvPr id="1277" name="Retângulo 6"/>
          <p:cNvSpPr/>
          <p:nvPr/>
        </p:nvSpPr>
        <p:spPr>
          <a:xfrm>
            <a:off x="3294720" y="1285920"/>
            <a:ext cx="30733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renças de Subjugação</a:t>
            </a:r>
            <a:endParaRPr b="0" lang="en-US" sz="2400" spc="-1" strike="noStrike">
              <a:solidFill>
                <a:srgbClr val="000000"/>
              </a:solidFill>
              <a:latin typeface="Arial"/>
            </a:endParaRPr>
          </a:p>
        </p:txBody>
      </p:sp>
      <p:sp>
        <p:nvSpPr>
          <p:cNvPr id="1278" name="Retângulo 7"/>
          <p:cNvSpPr/>
          <p:nvPr/>
        </p:nvSpPr>
        <p:spPr>
          <a:xfrm>
            <a:off x="571680" y="1928880"/>
            <a:ext cx="8215200" cy="37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trega do controle, das próprias decisões e preferências a outro, para evitar raiva, retaliação ou abandon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cepção de que os próprios desejos não são válidos ou important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iva consequente não é expressa abertamente para evitar conflit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operação excessiva e necessidade de agradar combinados com sensação de estar preso/a em armadil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07640" y="-360"/>
            <a:ext cx="9009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ORIENTAÇÃO PARA O OUTRO-DOMÍNIO IV</a:t>
            </a:r>
            <a:endParaRPr b="0" lang="en-US" sz="3400" spc="-1" strike="noStrike">
              <a:solidFill>
                <a:srgbClr val="262626"/>
              </a:solidFill>
              <a:latin typeface="Century Gothic"/>
            </a:endParaRPr>
          </a:p>
        </p:txBody>
      </p:sp>
      <p:sp>
        <p:nvSpPr>
          <p:cNvPr id="1280" name=""/>
          <p:cNvSpPr txBox="1"/>
          <p:nvPr/>
        </p:nvSpPr>
        <p:spPr>
          <a:xfrm>
            <a:off x="539280" y="1280880"/>
            <a:ext cx="8425080" cy="54608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Auto Sacrifício-</a:t>
            </a:r>
            <a:r>
              <a:rPr b="0" lang="pt-BR" sz="2400" spc="-1" strike="noStrike">
                <a:solidFill>
                  <a:srgbClr val="404040"/>
                </a:solidFill>
                <a:latin typeface="Century Gothic"/>
              </a:rPr>
              <a:t> foco excessivo no atendimento voluntário das necessidades alheias nas situações do cotidiano, à custa da própria gratificação. As razões mais comuns são evitar causar dor aos outros, evitar culpa por sentir-se egoísta ou manter a conexão com pessoas percebidas como carentes. Resulta, muitas vezes, de uma aguda sensibilidade à dor alheia. Às vezes, a pessoa sente que suas próprias necessidades não estão sendo adequadamente atendidas e fica ressentida com aquelas que estão sendo cuidadas. (sobrepõe-se ao conceito de codependênci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83"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pt-BR" sz="2400" spc="-1" strike="noStrike">
              <a:solidFill>
                <a:srgbClr val="000000"/>
              </a:solidFill>
              <a:latin typeface="Calibri"/>
              <a:ea typeface="Arial"/>
            </a:endParaRPr>
          </a:p>
        </p:txBody>
      </p:sp>
      <p:sp>
        <p:nvSpPr>
          <p:cNvPr id="1284" name="Retângulo 4"/>
          <p:cNvSpPr/>
          <p:nvPr/>
        </p:nvSpPr>
        <p:spPr>
          <a:xfrm>
            <a:off x="2752560" y="1357200"/>
            <a:ext cx="4118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1d7e"/>
                </a:solidFill>
                <a:latin typeface="Century Gothic"/>
              </a:rPr>
              <a:t>Crenças de Auto-sacrifício</a:t>
            </a:r>
            <a:endParaRPr b="0" lang="en-US" sz="2400" spc="-1" strike="noStrike">
              <a:solidFill>
                <a:srgbClr val="000000"/>
              </a:solidFill>
              <a:latin typeface="Arial"/>
            </a:endParaRPr>
          </a:p>
        </p:txBody>
      </p:sp>
      <p:sp>
        <p:nvSpPr>
          <p:cNvPr id="1285" name="Retângulo 8"/>
          <p:cNvSpPr/>
          <p:nvPr/>
        </p:nvSpPr>
        <p:spPr>
          <a:xfrm>
            <a:off x="571680" y="1928880"/>
            <a:ext cx="8215200" cy="329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curar satisfazer as necessidades dos outros excessivament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otivos: evitar sofrimento, culpa, ganhar estima, manter o relacionament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nsibilidade aos sofrimentos dos outro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ntimento exagerado de dever e de responsabilidad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nsação de que as próprias necessidades não são satisfeita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ssentimento de quem se está cuida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79280" y="9000"/>
            <a:ext cx="8964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ORIENTAÇÃO PARA O OUTRO-DOMÍNIO IV</a:t>
            </a:r>
            <a:endParaRPr b="0" lang="en-US" sz="3400" spc="-1" strike="noStrike">
              <a:solidFill>
                <a:srgbClr val="262626"/>
              </a:solidFill>
              <a:latin typeface="Century Gothic"/>
            </a:endParaRPr>
          </a:p>
        </p:txBody>
      </p:sp>
      <p:sp>
        <p:nvSpPr>
          <p:cNvPr id="1287" name=""/>
          <p:cNvSpPr txBox="1"/>
          <p:nvPr/>
        </p:nvSpPr>
        <p:spPr>
          <a:xfrm>
            <a:off x="250560" y="1290240"/>
            <a:ext cx="8713800" cy="55674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 </a:t>
            </a:r>
            <a:r>
              <a:rPr b="1" lang="pt-BR" sz="2400" spc="-1" strike="noStrike">
                <a:solidFill>
                  <a:srgbClr val="404040"/>
                </a:solidFill>
                <a:latin typeface="Century Gothic"/>
              </a:rPr>
              <a:t>Busca de aprovação/ busca de reconhecimento (merecimento)-</a:t>
            </a:r>
            <a:r>
              <a:rPr b="0" lang="pt-BR" sz="2400" spc="-1" strike="noStrike">
                <a:solidFill>
                  <a:srgbClr val="404040"/>
                </a:solidFill>
                <a:latin typeface="Century Gothic"/>
              </a:rPr>
              <a:t> ênfase excessiva na obtenção de aprovação, reconhecimento ou atenção das pessoas, ou em se adaptar aos outros, à custa de desenvolver um senso de self seguro e verdadeiro. O senso de autoestima depende principalmente das reações alheias e não das inclinações naturais. Inclui, muitas vezes, uma ênfase exagerada em status, aparência, aceitação social, dinheiro ou realização – como um meio de obter aprovação, admiração ou atenção (não tanto por poder ou controle). Resulta em que as decisões de vida mais importantes não são autenticas ou são insatisfatórias, ou na hipersensibilidade à rejeiçã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53720" y="9000"/>
            <a:ext cx="89643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SUPERVIGILANCIA E INIBIÇÃO-DOMÍNIO V</a:t>
            </a:r>
            <a:br>
              <a:rPr sz="3400"/>
            </a:br>
            <a:endParaRPr b="0" lang="en-US" sz="3400" spc="-1" strike="noStrike">
              <a:solidFill>
                <a:srgbClr val="262626"/>
              </a:solidFill>
              <a:latin typeface="Century Gothic"/>
            </a:endParaRPr>
          </a:p>
        </p:txBody>
      </p:sp>
      <p:sp>
        <p:nvSpPr>
          <p:cNvPr id="1289" name=""/>
          <p:cNvSpPr txBox="1"/>
          <p:nvPr/>
        </p:nvSpPr>
        <p:spPr>
          <a:xfrm>
            <a:off x="154080" y="1125360"/>
            <a:ext cx="8989920" cy="5616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200" spc="-1" strike="noStrike">
                <a:solidFill>
                  <a:srgbClr val="404040"/>
                </a:solidFill>
                <a:latin typeface="Century Gothic"/>
              </a:rPr>
              <a:t>Indivíduos com esquemas nesse domínio, suprimem excessivamente seus sentimentos, e impulsos e das escolhas pessoais espontânea, e se esforçam para cumprirem regras rígidas com expectativas internalizadas sobre o desempenho e comportamento ético (seu e de quem o rodeia) – à custa da felicidade, auto expressão, relaxamento, relacionamentos íntimos ou saúde. A família de origem é tipicamente severa, exigente, reprimida, rígida e, às vezes, punitiva: desempenho, dever, perfeccionismo, seguir regras, esconder emoções e evitar erros predominam sobre prazer, alegria e relaxamento. Quando crianças não foram estimulados a ter momentos de lazer e a buscar felicidade, e sim a estar supervigilantes em relação a eventos negativos na vida e a considera-la triste. Existe uma propensão ao pessimismo e a preocupação de que as coisas não vão dar certo se a pessoa não for vigilante e cuidadosa o tempo todo.</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79280" y="-360"/>
            <a:ext cx="8964720" cy="692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SUPERVIGILANCIA E INIBIÇÃO-DOMÍNIO V</a:t>
            </a:r>
            <a:br>
              <a:rPr sz="3400"/>
            </a:br>
            <a:endParaRPr b="0" lang="en-US" sz="3400" spc="-1" strike="noStrike">
              <a:solidFill>
                <a:srgbClr val="262626"/>
              </a:solidFill>
              <a:latin typeface="Century Gothic"/>
            </a:endParaRPr>
          </a:p>
        </p:txBody>
      </p:sp>
      <p:sp>
        <p:nvSpPr>
          <p:cNvPr id="1291" name=""/>
          <p:cNvSpPr txBox="1"/>
          <p:nvPr/>
        </p:nvSpPr>
        <p:spPr>
          <a:xfrm>
            <a:off x="468000" y="1197000"/>
            <a:ext cx="8675640" cy="5400720"/>
          </a:xfrm>
          <a:prstGeom prst="rect">
            <a:avLst/>
          </a:prstGeom>
          <a:noFill/>
          <a:ln w="0">
            <a:noFill/>
          </a:ln>
        </p:spPr>
        <p:txBody>
          <a:bodyPr anchor="t">
            <a:normAutofit fontScale="99000"/>
          </a:bodyPr>
          <a:p>
            <a:pPr marL="339480" indent="-3394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200" spc="-1" strike="noStrike">
                <a:solidFill>
                  <a:srgbClr val="404040"/>
                </a:solidFill>
                <a:latin typeface="Century Gothic"/>
              </a:rPr>
              <a:t>Negativismo/ Pessimismo – </a:t>
            </a:r>
            <a:r>
              <a:rPr b="0" lang="pt-BR" sz="2200" spc="-1" strike="noStrike">
                <a:solidFill>
                  <a:srgbClr val="404040"/>
                </a:solidFill>
                <a:latin typeface="Century Gothic"/>
              </a:rPr>
              <a:t>um foco generalizado e permanente nos aspectos negativos da vida (dor, morte, perda, desapontamento, conflito, culpa, ressentimento, problemas não resolvidos, possíveis erros, traição, coisas que podem dar errado, etc.) ao mesmo tempo em que se minimiza ou negligencia aspectos positivos ou otimistas. Inclui uma expectativa exagerada – em diversas situações profissionais, financeiras ou interpessoais – de que as coisas acabem dando muito errado ou de que aspectos da vida, que parecem estar bem, possam piorar. Geralmente, envolve um medo extremo de cometer erros que possam levar a colapso financeiro, perdas, humilhação ou situações muito desagradáveis. Uma vez que os possíveis resultados negativos são exagerados, esses pacientes são em geral, caracterizados por preocupação, vigilância, queixas ou indecisão crônicas.</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294"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pt-BR" sz="2400" spc="-1" strike="noStrike">
              <a:solidFill>
                <a:srgbClr val="000000"/>
              </a:solidFill>
              <a:latin typeface="Calibri"/>
              <a:ea typeface="Arial"/>
            </a:endParaRPr>
          </a:p>
        </p:txBody>
      </p:sp>
      <p:sp>
        <p:nvSpPr>
          <p:cNvPr id="1295" name="Retângulo 7"/>
          <p:cNvSpPr/>
          <p:nvPr/>
        </p:nvSpPr>
        <p:spPr>
          <a:xfrm>
            <a:off x="2081520" y="1285920"/>
            <a:ext cx="4988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nças de Negativismo e Pessimismo</a:t>
            </a:r>
            <a:endParaRPr b="0" lang="en-US" sz="2400" spc="-1" strike="noStrike">
              <a:solidFill>
                <a:srgbClr val="000000"/>
              </a:solidFill>
              <a:latin typeface="Arial"/>
            </a:endParaRPr>
          </a:p>
        </p:txBody>
      </p:sp>
      <p:sp>
        <p:nvSpPr>
          <p:cNvPr id="1296" name="Retângulo 9"/>
          <p:cNvSpPr/>
          <p:nvPr/>
        </p:nvSpPr>
        <p:spPr>
          <a:xfrm>
            <a:off x="642960" y="2000160"/>
            <a:ext cx="80722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co nos aspectos negativos da vida (sofrimento, morte, perdas, desapontamentos, conflitos, culpa, ressentimento, problemas não resolvidos, erros potenciais, traições, coisas que podem dar errad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imizar os aspectos positivos e otimista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ueixas contínuas que não se modificam diante de soluções adequadas ou melhora objetiva das circunstâ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0" y="152280"/>
            <a:ext cx="8229600" cy="6098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squemas Cognitivos</a:t>
            </a:r>
            <a:endParaRPr b="0" lang="en-US" sz="2900" spc="-1" strike="noStrike">
              <a:solidFill>
                <a:srgbClr val="262626"/>
              </a:solidFill>
              <a:latin typeface="Century Gothic"/>
            </a:endParaRPr>
          </a:p>
        </p:txBody>
      </p:sp>
      <p:sp>
        <p:nvSpPr>
          <p:cNvPr id="1185" name=""/>
          <p:cNvSpPr txBox="1"/>
          <p:nvPr/>
        </p:nvSpPr>
        <p:spPr>
          <a:xfrm>
            <a:off x="3544560" y="1285920"/>
            <a:ext cx="5599080" cy="4664160"/>
          </a:xfrm>
          <a:prstGeom prst="rect">
            <a:avLst/>
          </a:prstGeom>
          <a:noFill/>
          <a:ln w="0">
            <a:noFill/>
          </a:ln>
        </p:spPr>
        <p:txBody>
          <a:bodyPr anchor="t">
            <a:normAutofit/>
          </a:bodyPr>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100" spc="-1" strike="noStrike">
                <a:solidFill>
                  <a:srgbClr val="404040"/>
                </a:solidFill>
                <a:latin typeface="Calibri"/>
              </a:rPr>
              <a:t>Geralmente resultantes de uma interação do temperamento inato da criança com experiências de desenvolvimento disfuncionais com pessoas significativas.</a:t>
            </a: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100" spc="-1" strike="noStrike">
                <a:solidFill>
                  <a:srgbClr val="404040"/>
                </a:solidFill>
                <a:latin typeface="Calibri"/>
              </a:rPr>
              <a:t>São autoperpetuáveis.</a:t>
            </a: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Century Gothic"/>
            </a:endParaRPr>
          </a:p>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100" spc="-1" strike="noStrike">
                <a:solidFill>
                  <a:srgbClr val="404040"/>
                </a:solidFill>
                <a:latin typeface="Calibri"/>
              </a:rPr>
              <a:t>Verdades  a priori acerca de si mesmo e/ou do ambiente.</a:t>
            </a: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100" spc="-1" strike="noStrike">
                <a:solidFill>
                  <a:srgbClr val="404040"/>
                </a:solidFill>
                <a:latin typeface="Calibri"/>
              </a:rPr>
              <a:t>Resistentes à mudança, pois há uma crença associada de que é impeditivo mudar.</a:t>
            </a:r>
            <a:endParaRPr b="0" lang="en-US" sz="2100" spc="-1" strike="noStrike">
              <a:solidFill>
                <a:srgbClr val="404040"/>
              </a:solidFill>
              <a:latin typeface="Century Gothic"/>
            </a:endParaRPr>
          </a:p>
          <a:p>
            <a:pPr marL="343080" indent="-343080" algn="just">
              <a:lnSpc>
                <a:spcPct val="90000"/>
              </a:lnSpc>
              <a:spcBef>
                <a:spcPts val="1001"/>
              </a:spcBef>
              <a:buClr>
                <a:srgbClr val="92278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Century Gothic"/>
            </a:endParaRPr>
          </a:p>
        </p:txBody>
      </p:sp>
      <p:sp>
        <p:nvSpPr>
          <p:cNvPr id="1186" name="Espaço Reservado para Número de Slide 3"/>
          <p:cNvSpPr/>
          <p:nvPr/>
        </p:nvSpPr>
        <p:spPr>
          <a:xfrm>
            <a:off x="6553080" y="54291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40C4-EDBD-42EC-BB8E-C9DF9ED5592F}" type="slidenum">
              <a:rPr b="0" lang="pt-BR" sz="1200" spc="-1" strike="noStrike">
                <a:solidFill>
                  <a:srgbClr val="002060"/>
                </a:solidFill>
                <a:latin typeface="Calibri"/>
              </a:rPr>
              <a:t>&lt;number&gt;</a:t>
            </a:fld>
            <a:endParaRPr b="0" lang="en-US" sz="1200" spc="-1" strike="noStrike">
              <a:solidFill>
                <a:srgbClr val="000000"/>
              </a:solidFill>
              <a:latin typeface="Arial"/>
            </a:endParaRPr>
          </a:p>
        </p:txBody>
      </p:sp>
      <p:pic>
        <p:nvPicPr>
          <p:cNvPr id="1187" name="Picture 6" descr="knowledge-21ccaf4a87109ffae579cf469737542e_h"/>
          <p:cNvPicPr/>
          <p:nvPr/>
        </p:nvPicPr>
        <p:blipFill>
          <a:blip r:embed="rId1"/>
          <a:stretch/>
        </p:blipFill>
        <p:spPr>
          <a:xfrm>
            <a:off x="250920" y="1773360"/>
            <a:ext cx="2693880" cy="3456000"/>
          </a:xfrm>
          <a:prstGeom prst="rect">
            <a:avLst/>
          </a:prstGeom>
          <a:ln w="0">
            <a:noFill/>
          </a:ln>
        </p:spPr>
      </p:pic>
      <p:sp>
        <p:nvSpPr>
          <p:cNvPr id="1188" name="Line 7"/>
          <p:cNvSpPr/>
          <p:nvPr/>
        </p:nvSpPr>
        <p:spPr>
          <a:xfrm flipV="1">
            <a:off x="468360" y="5373720"/>
            <a:ext cx="0" cy="792000"/>
          </a:xfrm>
          <a:prstGeom prst="line">
            <a:avLst/>
          </a:prstGeom>
          <a:ln w="9360">
            <a:solidFill>
              <a:srgbClr val="9227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8"/>
          <p:cNvSpPr/>
          <p:nvPr/>
        </p:nvSpPr>
        <p:spPr>
          <a:xfrm>
            <a:off x="468360" y="5373720"/>
            <a:ext cx="2590920" cy="0"/>
          </a:xfrm>
          <a:prstGeom prst="line">
            <a:avLst/>
          </a:prstGeom>
          <a:ln w="9360">
            <a:solidFill>
              <a:srgbClr val="9227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9"/>
          <p:cNvSpPr/>
          <p:nvPr/>
        </p:nvSpPr>
        <p:spPr>
          <a:xfrm flipV="1">
            <a:off x="3059280" y="1628280"/>
            <a:ext cx="0" cy="3745080"/>
          </a:xfrm>
          <a:prstGeom prst="line">
            <a:avLst/>
          </a:prstGeom>
          <a:ln w="9360">
            <a:solidFill>
              <a:srgbClr val="9227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179280" y="-360"/>
            <a:ext cx="8964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SUPERVIGILANCIA E INIBIÇÃO-DOMÍNIO V</a:t>
            </a:r>
            <a:br>
              <a:rPr sz="3400"/>
            </a:br>
            <a:endParaRPr b="0" lang="en-US" sz="3400" spc="-1" strike="noStrike">
              <a:solidFill>
                <a:srgbClr val="262626"/>
              </a:solidFill>
              <a:latin typeface="Century Gothic"/>
            </a:endParaRPr>
          </a:p>
        </p:txBody>
      </p:sp>
      <p:sp>
        <p:nvSpPr>
          <p:cNvPr id="1298" name=""/>
          <p:cNvSpPr txBox="1"/>
          <p:nvPr/>
        </p:nvSpPr>
        <p:spPr>
          <a:xfrm>
            <a:off x="395280" y="1280880"/>
            <a:ext cx="8748720" cy="55767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Inibição Emocional-</a:t>
            </a:r>
            <a:r>
              <a:rPr b="0" lang="pt-BR" sz="2400" spc="-1" strike="noStrike">
                <a:solidFill>
                  <a:srgbClr val="404040"/>
                </a:solidFill>
                <a:latin typeface="Century Gothic"/>
              </a:rPr>
              <a:t> a inibição excessiva da ação, dos sentimentos ou das comunicações espontâneas – normalmente para evitar a desaprovação dos outros, os sentimentos de vergonha ou a perda de controle dos impulsos. As áreas mais comuns de inibição envolvem: (a) inibição da raiva e agressão (b) inibição dos impulsos positivos (por exemplo, alegria, afeição, excitação sexual, brincadeiras); (c) dificuldade de expressar vulnerabilidade ou de comunicar-se livremente sobre os próprios sentimentos, necessidades, e assim por diante; ou (d) ênfase excessiva na racionalidade enquanto se desconsideram emoções. Esses indivíduos muitas vezes se apresentam como indiferentes, contidos, retraídos ou frios</a:t>
            </a:r>
            <a:r>
              <a:rPr b="0" lang="pt-BR" sz="1800" spc="-1" strike="noStrike">
                <a:solidFill>
                  <a:srgbClr val="404040"/>
                </a:solidFill>
                <a:latin typeface="Century Gothic"/>
              </a:rPr>
              <a: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179280" y="-360"/>
            <a:ext cx="8964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SUPERVIGILANCIA E INIBIÇÃO-DOMÍNIO V</a:t>
            </a:r>
            <a:br>
              <a:rPr sz="3400"/>
            </a:br>
            <a:endParaRPr b="0" lang="en-US" sz="3400" spc="-1" strike="noStrike">
              <a:solidFill>
                <a:srgbClr val="262626"/>
              </a:solidFill>
              <a:latin typeface="Century Gothic"/>
            </a:endParaRPr>
          </a:p>
        </p:txBody>
      </p:sp>
      <p:sp>
        <p:nvSpPr>
          <p:cNvPr id="1300" name=""/>
          <p:cNvSpPr txBox="1"/>
          <p:nvPr/>
        </p:nvSpPr>
        <p:spPr>
          <a:xfrm>
            <a:off x="250560" y="1052640"/>
            <a:ext cx="8893080" cy="58053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200" spc="-1" strike="noStrike">
                <a:solidFill>
                  <a:srgbClr val="404040"/>
                </a:solidFill>
                <a:latin typeface="Century Gothic"/>
              </a:rPr>
              <a:t>Padrões Inflexíveis/ Crítica exagerada- </a:t>
            </a:r>
            <a:r>
              <a:rPr b="0" lang="pt-BR" sz="2200" spc="-1" strike="noStrike">
                <a:solidFill>
                  <a:srgbClr val="404040"/>
                </a:solidFill>
                <a:latin typeface="Century Gothic"/>
              </a:rPr>
              <a:t>a crença subjacente de que é preciso tentar estar a altura de padrões internalizados muito elevados de comportamento e desempenho para evitar críticas, desaprovação ou vergonha. Costuma resultar em sentimentos de pressão constante ou em dificuldade para desacelerar, e uma atitude crítica exagerada em relação a si mesmo e aos outros. Precisa incluir um prejuízo significativo nas esferas de prazer, relaxamento, saúde, autoestima, senso de realização ou relacionamentos insatisfatórios. Os padrões inflexíveis apresentam-se tipicamente como: (a) perfeccionismo, extrema atenção a detalhes ou uma subestimação do bom desempenho da pessoa em relação à norma (precisa fazer a coisa certa); (b) regras rígidas e “deveres” em muitas áreas da vida incluindo preceitos morais, éticos, culturais ou religiosos irrealisticamente elevados ou (c) preocupação com tempo e eficiência, a fim de realizar mais.</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tângulo 3"/>
          <p:cNvSpPr/>
          <p:nvPr/>
        </p:nvSpPr>
        <p:spPr>
          <a:xfrm>
            <a:off x="0" y="1000080"/>
            <a:ext cx="9144000" cy="838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Retângulo 4"/>
          <p:cNvSpPr/>
          <p:nvPr/>
        </p:nvSpPr>
        <p:spPr>
          <a:xfrm>
            <a:off x="768960" y="3871800"/>
            <a:ext cx="2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p:txBody>
      </p:sp>
      <p:sp>
        <p:nvSpPr>
          <p:cNvPr id="1303" name="PlaceHolder 1"/>
          <p:cNvSpPr>
            <a:spLocks noGrp="1"/>
          </p:cNvSpPr>
          <p:nvPr>
            <p:ph type="title"/>
          </p:nvPr>
        </p:nvSpPr>
        <p:spPr>
          <a:xfrm>
            <a:off x="0" y="168480"/>
            <a:ext cx="8229600" cy="609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pt-BR" sz="2400" spc="-1" strike="noStrike">
              <a:solidFill>
                <a:srgbClr val="000000"/>
              </a:solidFill>
              <a:latin typeface="Calibri"/>
              <a:ea typeface="Arial"/>
            </a:endParaRPr>
          </a:p>
        </p:txBody>
      </p:sp>
      <p:sp>
        <p:nvSpPr>
          <p:cNvPr id="1304" name="Retângulo 8"/>
          <p:cNvSpPr/>
          <p:nvPr/>
        </p:nvSpPr>
        <p:spPr>
          <a:xfrm>
            <a:off x="642960" y="1857240"/>
            <a:ext cx="8215200" cy="352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lores, escolhas, alvos muito rígidos ou não adequados às suas inclinações naturai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 receber aprovação, não passar vergonha, não perder o controle, ou prevenir consequências grav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rometimento do prazer, relaxamento, espontaneidade, saúde, satisfaçã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Ênfase no sucesso, competição, dinheiro, aparência física, status social, autocontrole, disciplina, perfeccionismo, ordem, atenção aos detalhes, controle e domínio do ambiente, na moral, ética ou preceitos religiosos.</a:t>
            </a:r>
            <a:endParaRPr b="0" lang="en-US" sz="1800" spc="-1" strike="noStrike">
              <a:solidFill>
                <a:srgbClr val="000000"/>
              </a:solidFill>
              <a:latin typeface="Arial"/>
            </a:endParaRPr>
          </a:p>
        </p:txBody>
      </p:sp>
      <p:sp>
        <p:nvSpPr>
          <p:cNvPr id="1305" name="Retângulo 7"/>
          <p:cNvSpPr/>
          <p:nvPr/>
        </p:nvSpPr>
        <p:spPr>
          <a:xfrm>
            <a:off x="2738520" y="1214280"/>
            <a:ext cx="399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Calibri"/>
              </a:rPr>
              <a:t>Crenças de padrões Inflexive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79280" y="23400"/>
            <a:ext cx="8964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400" spc="-1" strike="noStrike">
                <a:solidFill>
                  <a:srgbClr val="262626"/>
                </a:solidFill>
                <a:latin typeface="Century Gothic"/>
              </a:rPr>
              <a:t>SUPERVIGILANCIA E INIBIÇÃO-DOMÍNIO V</a:t>
            </a:r>
            <a:br>
              <a:rPr sz="3400"/>
            </a:br>
            <a:endParaRPr b="0" lang="en-US" sz="3400" spc="-1" strike="noStrike">
              <a:solidFill>
                <a:srgbClr val="262626"/>
              </a:solidFill>
              <a:latin typeface="Century Gothic"/>
            </a:endParaRPr>
          </a:p>
        </p:txBody>
      </p:sp>
      <p:sp>
        <p:nvSpPr>
          <p:cNvPr id="1307" name=""/>
          <p:cNvSpPr txBox="1"/>
          <p:nvPr/>
        </p:nvSpPr>
        <p:spPr>
          <a:xfrm>
            <a:off x="539280" y="1304640"/>
            <a:ext cx="8604360" cy="5553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Caráter Punitivo- </a:t>
            </a:r>
            <a:r>
              <a:rPr b="0" lang="pt-BR" sz="2800" spc="-1" strike="noStrike">
                <a:solidFill>
                  <a:srgbClr val="404040"/>
                </a:solidFill>
                <a:latin typeface="Century Gothic"/>
              </a:rPr>
              <a:t>a crença de que as pessoas devem ser severamente punidas por cometer erros. Envolve a tendência a uma atitude zangada, intolerante, punitiva e impaciente com aquelas pessoas (incluindo a si mesmo) que não estão à altura das expectativas ou dos padrões pessoais. Pode-se incluir dificuldade para perdoar erros próprios ou alheios, por uma relutância em considerar circunstancias atenuantes, a imperfeição humana ou empatizar sentimentos.</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200" spc="-1" strike="noStrike">
                <a:solidFill>
                  <a:srgbClr val="000000"/>
                </a:solidFill>
                <a:latin typeface="Calibri"/>
              </a:rPr>
              <a:t>Questionário de esquemas</a:t>
            </a:r>
            <a:endParaRPr b="0" lang="en-US" sz="3200" spc="-1" strike="noStrike">
              <a:solidFill>
                <a:srgbClr val="262626"/>
              </a:solidFill>
              <a:latin typeface="Century Gothic"/>
            </a:endParaRPr>
          </a:p>
        </p:txBody>
      </p:sp>
      <p:sp>
        <p:nvSpPr>
          <p:cNvPr id="1309" name=""/>
          <p:cNvSpPr txBox="1"/>
          <p:nvPr/>
        </p:nvSpPr>
        <p:spPr>
          <a:xfrm>
            <a:off x="1942920" y="2133360"/>
            <a:ext cx="6591240" cy="3778200"/>
          </a:xfrm>
          <a:prstGeom prst="rect">
            <a:avLst/>
          </a:prstGeom>
          <a:noFill/>
          <a:ln w="0">
            <a:noFill/>
          </a:ln>
        </p:spPr>
        <p:txBody>
          <a:bodyPr anchor="t">
            <a:normAutofit/>
          </a:bodyPr>
          <a:p>
            <a:pPr marL="343080" indent="-343080">
              <a:lnSpc>
                <a:spcPct val="10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alibri"/>
              </a:rPr>
              <a:t>Aplicação pode ser feita durante a sessão</a:t>
            </a:r>
            <a:endParaRPr b="0" lang="en-US" sz="1800" spc="-1" strike="noStrike">
              <a:solidFill>
                <a:srgbClr val="404040"/>
              </a:solidFill>
              <a:latin typeface="Century Gothic"/>
            </a:endParaRPr>
          </a:p>
          <a:p>
            <a:pPr marL="343080" indent="-343080">
              <a:lnSpc>
                <a:spcPct val="10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alibri"/>
              </a:rPr>
              <a:t>Feita entre as sessões, depois discutido</a:t>
            </a:r>
            <a:endParaRPr b="0" lang="en-US" sz="1800" spc="-1" strike="noStrike">
              <a:solidFill>
                <a:srgbClr val="404040"/>
              </a:solidFill>
              <a:latin typeface="Century Gothic"/>
            </a:endParaRPr>
          </a:p>
          <a:p>
            <a:pPr marL="343080" indent="-343080">
              <a:lnSpc>
                <a:spcPct val="100000"/>
              </a:lnSpc>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alibri"/>
              </a:rPr>
              <a:t>Deve ser revisado, pedindo-se ao paciente que complete cada afirmação, de forma que se aplique melhor a ele, principalmente após o questionamento.</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258920" y="115920"/>
            <a:ext cx="7275600" cy="1789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Quando adiar ou </a:t>
            </a:r>
            <a:r>
              <a:rPr b="0" lang="pt-BR" sz="3600" spc="-1" strike="noStrike">
                <a:solidFill>
                  <a:srgbClr val="ff0000"/>
                </a:solidFill>
                <a:latin typeface="Century Gothic"/>
              </a:rPr>
              <a:t>não</a:t>
            </a:r>
            <a:r>
              <a:rPr b="0" lang="pt-BR" sz="3600" spc="-1" strike="noStrike">
                <a:solidFill>
                  <a:srgbClr val="262626"/>
                </a:solidFill>
                <a:latin typeface="Century Gothic"/>
              </a:rPr>
              <a:t> aplicar o questionário de esquemas</a:t>
            </a:r>
            <a:endParaRPr b="0" lang="en-US" sz="3600" spc="-1" strike="noStrike">
              <a:solidFill>
                <a:srgbClr val="262626"/>
              </a:solidFill>
              <a:latin typeface="Century Gothic"/>
            </a:endParaRPr>
          </a:p>
        </p:txBody>
      </p:sp>
      <p:sp>
        <p:nvSpPr>
          <p:cNvPr id="1311" name=""/>
          <p:cNvSpPr txBox="1"/>
          <p:nvPr/>
        </p:nvSpPr>
        <p:spPr>
          <a:xfrm>
            <a:off x="1476000" y="1700280"/>
            <a:ext cx="7272360" cy="4968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1- O paciente está em uma crise profunda em alguma área de sua vid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2- Paciente está psicótic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3- o paciente tem um transtorno de Eixo I agudo não tratado, relativamente grave, que requer atenção imediat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4- O paciente atualmente usa drogas ou álcool em nível grave a modera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5- o problema atual é situacional e não parece relacionar-se com um padrão de vida ou com um esquem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de esquemas</a:t>
            </a:r>
            <a:endParaRPr b="0" lang="en-US" sz="3600" spc="-1" strike="noStrike">
              <a:solidFill>
                <a:srgbClr val="262626"/>
              </a:solidFill>
              <a:latin typeface="Century Gothic"/>
            </a:endParaRPr>
          </a:p>
        </p:txBody>
      </p:sp>
      <p:sp>
        <p:nvSpPr>
          <p:cNvPr id="1313" name=""/>
          <p:cNvSpPr txBox="1"/>
          <p:nvPr/>
        </p:nvSpPr>
        <p:spPr>
          <a:xfrm>
            <a:off x="826920" y="1413000"/>
            <a:ext cx="8066160" cy="5256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odo é o conjunto de esquemas ou operações de esquemas desadaptativos ou adaptativos- que estão ativados no indivíduo em um dado momento. O desenvolvimento do modelo de modos é um avanço para o tratamento de pacientes mais graves com sintomas crônicos do eixo II, ou aqueles que melhoravam transtornos do eixo I mas continuam a ter desconforto emocional e prejuízos importantes no funcionamento, e em especial aos borders e narcisistas, e hoje usamos os modos até para quem tem melhor funcionamento, mesclando com esquema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1942920" y="188640"/>
            <a:ext cx="633708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de esquemas</a:t>
            </a:r>
            <a:endParaRPr b="0" lang="en-US" sz="3600" spc="-1" strike="noStrike">
              <a:solidFill>
                <a:srgbClr val="262626"/>
              </a:solidFill>
              <a:latin typeface="Century Gothic"/>
            </a:endParaRPr>
          </a:p>
        </p:txBody>
      </p:sp>
      <p:sp>
        <p:nvSpPr>
          <p:cNvPr id="1315" name=""/>
          <p:cNvSpPr txBox="1"/>
          <p:nvPr/>
        </p:nvSpPr>
        <p:spPr>
          <a:xfrm>
            <a:off x="899640" y="907920"/>
            <a:ext cx="7993080" cy="59500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Quando usar abordagem baseada em mod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Quanto melhor o funcionamento do paciente mais usaremos a terminologia padr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Quanto mais grave o funci. Mais usamos modos, e no nível intermediário mesclamos esquemas, estilos de enfrentamento e mod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Quando a terapia estiver “trancada” e não conseguir romper a barreira de evitção ou hipercompensaç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Quando paciente é muito autopunitivo e autocritic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m pacientes com frequentes flutuações de afeto, como os borders – raiva- tristeza, autoponição- indiferenç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1186920" y="115560"/>
            <a:ext cx="73472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Tipos de modos mais comuns</a:t>
            </a:r>
            <a:endParaRPr b="0" lang="en-US" sz="3600" spc="-1" strike="noStrike">
              <a:solidFill>
                <a:srgbClr val="262626"/>
              </a:solidFill>
              <a:latin typeface="Century Gothic"/>
            </a:endParaRPr>
          </a:p>
        </p:txBody>
      </p:sp>
      <p:sp>
        <p:nvSpPr>
          <p:cNvPr id="1317" name=""/>
          <p:cNvSpPr txBox="1"/>
          <p:nvPr/>
        </p:nvSpPr>
        <p:spPr>
          <a:xfrm>
            <a:off x="611280" y="1125360"/>
            <a:ext cx="8137440" cy="5732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Há quatro tipos principais de mod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odos crianç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odos enfrentamento desadaptativ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odos pais disfuncionais </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odos adulto saudável</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ada tipo de modo se associa a certos esquemas (exceto o adulto saudável), ou corporifica determinados estilos de enfrentamento</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Border e narci tem modos desconectados e experimento só um modo de cada vez, sendo que border mudam de modos rapidamente, já outros TP chegam a permanecer no mesmo modo por muito temp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906560" y="90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Criança</a:t>
            </a:r>
            <a:endParaRPr b="0" lang="en-US" sz="3600" spc="-1" strike="noStrike">
              <a:solidFill>
                <a:srgbClr val="262626"/>
              </a:solidFill>
              <a:latin typeface="Century Gothic"/>
            </a:endParaRPr>
          </a:p>
        </p:txBody>
      </p:sp>
      <p:sp>
        <p:nvSpPr>
          <p:cNvPr id="1319" name=""/>
          <p:cNvSpPr txBox="1"/>
          <p:nvPr/>
        </p:nvSpPr>
        <p:spPr>
          <a:xfrm>
            <a:off x="684360" y="1125360"/>
            <a:ext cx="8208720" cy="5732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São inatos e representam o espectro emocional dos seres humanos. O que acontece na infância pode suprimir ou fortalecer estes modos, mas nascemos com a capacidade de expressar todos, eles costumam ser mais claros nos border e existem 4 níveis:</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1- </a:t>
            </a:r>
            <a:r>
              <a:rPr b="1" lang="pt-BR" sz="2000" spc="-1" strike="noStrike">
                <a:solidFill>
                  <a:srgbClr val="404040"/>
                </a:solidFill>
                <a:latin typeface="Century Gothic"/>
              </a:rPr>
              <a:t>modo criança vulnerável- </a:t>
            </a:r>
            <a:r>
              <a:rPr b="0" lang="pt-BR" sz="2000" spc="-1" strike="noStrike">
                <a:solidFill>
                  <a:srgbClr val="404040"/>
                </a:solidFill>
                <a:latin typeface="Century Gothic"/>
              </a:rPr>
              <a:t>sufocado, triste, assustado, desamparado. Necessita de cuidados de adultos para sobreviver e não o recebe, necessita de um pai ou uma mãe que tolerará qualquer coisa para tê-lo. A natureza específica da criança vulnerável depende do esquema: pai ou mãe deixa a cça sozinha por longos períodos (criança abandonada), bate na cça em excesso (cça que sofre abuso), não dá amor (cça privada) ou a critica com dureza (cça defectiva). A maioria dos esquemas pertencem a esse modo, sendo o que mais nos preocupa em tratar</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0" y="152280"/>
            <a:ext cx="8229600" cy="6098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squemas Cognitivos</a:t>
            </a:r>
            <a:endParaRPr b="0" lang="en-US" sz="2900" spc="-1" strike="noStrike">
              <a:solidFill>
                <a:srgbClr val="262626"/>
              </a:solidFill>
              <a:latin typeface="Century Gothic"/>
            </a:endParaRPr>
          </a:p>
        </p:txBody>
      </p:sp>
      <p:sp>
        <p:nvSpPr>
          <p:cNvPr id="1192" name="Espaço Reservado para Número de Slide 3"/>
          <p:cNvSpPr/>
          <p:nvPr/>
        </p:nvSpPr>
        <p:spPr>
          <a:xfrm>
            <a:off x="6553080" y="54291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1F05-F0F7-4B1F-87B0-8165F40BEF7C}" type="slidenum">
              <a:rPr b="0" lang="pt-BR" sz="1200" spc="-1" strike="noStrike">
                <a:solidFill>
                  <a:srgbClr val="002060"/>
                </a:solidFill>
                <a:latin typeface="Calibri"/>
              </a:rPr>
              <a:t>&lt;number&gt;</a:t>
            </a:fld>
            <a:endParaRPr b="0" lang="en-US" sz="1200" spc="-1" strike="noStrike">
              <a:solidFill>
                <a:srgbClr val="000000"/>
              </a:solidFill>
              <a:latin typeface="Arial"/>
            </a:endParaRPr>
          </a:p>
        </p:txBody>
      </p:sp>
      <p:sp>
        <p:nvSpPr>
          <p:cNvPr id="1193" name="Retângulo 4"/>
          <p:cNvSpPr/>
          <p:nvPr/>
        </p:nvSpPr>
        <p:spPr>
          <a:xfrm>
            <a:off x="642960" y="1305000"/>
            <a:ext cx="5369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Ligados a altos níveis de afeto, quando ativa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Freqüentemente desencadeados por alguma mudança ambiental, como perda de um emprego ou fim de um relacionamento.</a:t>
            </a:r>
            <a:endParaRPr b="0" lang="en-US" sz="2400" spc="-1" strike="noStrike">
              <a:solidFill>
                <a:srgbClr val="000000"/>
              </a:solidFill>
              <a:latin typeface="Arial"/>
            </a:endParaRPr>
          </a:p>
        </p:txBody>
      </p:sp>
      <p:pic>
        <p:nvPicPr>
          <p:cNvPr id="1194" name="Picture 6" descr="ANd9GcTpXfQ42Z9-fYU6ofsGdXa7ZIP4zM_Ny5vSxWQK4CDcfVXzco9j"/>
          <p:cNvPicPr/>
          <p:nvPr/>
        </p:nvPicPr>
        <p:blipFill>
          <a:blip r:embed="rId1"/>
          <a:stretch/>
        </p:blipFill>
        <p:spPr>
          <a:xfrm>
            <a:off x="6300720" y="1844640"/>
            <a:ext cx="2482920" cy="2952720"/>
          </a:xfrm>
          <a:prstGeom prst="rect">
            <a:avLst/>
          </a:prstGeom>
          <a:ln w="0">
            <a:noFill/>
          </a:ln>
        </p:spPr>
      </p:pic>
      <p:sp>
        <p:nvSpPr>
          <p:cNvPr id="1195" name="Line 7"/>
          <p:cNvSpPr/>
          <p:nvPr/>
        </p:nvSpPr>
        <p:spPr>
          <a:xfrm flipH="1">
            <a:off x="6372360" y="260280"/>
            <a:ext cx="2232000" cy="1584360"/>
          </a:xfrm>
          <a:prstGeom prst="line">
            <a:avLst/>
          </a:prstGeom>
          <a:ln w="9360">
            <a:solidFill>
              <a:srgbClr val="9227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8"/>
          <p:cNvSpPr/>
          <p:nvPr/>
        </p:nvSpPr>
        <p:spPr>
          <a:xfrm>
            <a:off x="6300720" y="4797360"/>
            <a:ext cx="2448000" cy="1368360"/>
          </a:xfrm>
          <a:prstGeom prst="line">
            <a:avLst/>
          </a:prstGeom>
          <a:ln w="9360">
            <a:solidFill>
              <a:srgbClr val="9227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1943280" y="234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Criança</a:t>
            </a:r>
            <a:endParaRPr b="0" lang="en-US" sz="3600" spc="-1" strike="noStrike">
              <a:solidFill>
                <a:srgbClr val="262626"/>
              </a:solidFill>
              <a:latin typeface="Century Gothic"/>
            </a:endParaRPr>
          </a:p>
        </p:txBody>
      </p:sp>
      <p:sp>
        <p:nvSpPr>
          <p:cNvPr id="1321" name=""/>
          <p:cNvSpPr txBox="1"/>
          <p:nvPr/>
        </p:nvSpPr>
        <p:spPr>
          <a:xfrm>
            <a:off x="1042560" y="1052640"/>
            <a:ext cx="7488360" cy="5400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2- Modo Criança Zangada- </a:t>
            </a:r>
            <a:r>
              <a:rPr b="0" lang="pt-BR" sz="2400" spc="-1" strike="noStrike">
                <a:solidFill>
                  <a:srgbClr val="404040"/>
                </a:solidFill>
                <a:latin typeface="Century Gothic"/>
              </a:rPr>
              <a:t>fica furiosa, liberam essa raiva diretamente em resposta as necessidades percebidas como não satisfeitas ou tratamento injusto, relacionados a esquemas associad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 </a:t>
            </a:r>
            <a:r>
              <a:rPr b="0" lang="pt-BR" sz="2400" spc="-1" strike="noStrike">
                <a:solidFill>
                  <a:srgbClr val="404040"/>
                </a:solidFill>
                <a:latin typeface="Century Gothic"/>
              </a:rPr>
              <a:t>Quando ativado o esquema o paciente se sente abandonado, vítima de abuso, privado, subjugado, ele se enfurece e pode gritar, agredir verbalmente ou ter fantasias e impulsos violento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1933560" y="234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Criança</a:t>
            </a:r>
            <a:endParaRPr b="0" lang="en-US" sz="3600" spc="-1" strike="noStrike">
              <a:solidFill>
                <a:srgbClr val="262626"/>
              </a:solidFill>
              <a:latin typeface="Century Gothic"/>
            </a:endParaRPr>
          </a:p>
        </p:txBody>
      </p:sp>
      <p:sp>
        <p:nvSpPr>
          <p:cNvPr id="1323" name=""/>
          <p:cNvSpPr txBox="1"/>
          <p:nvPr/>
        </p:nvSpPr>
        <p:spPr>
          <a:xfrm>
            <a:off x="899640" y="907560"/>
            <a:ext cx="7993080" cy="56898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200" spc="-1" strike="noStrike">
                <a:solidFill>
                  <a:srgbClr val="404040"/>
                </a:solidFill>
                <a:latin typeface="Century Gothic"/>
              </a:rPr>
              <a:t>3- </a:t>
            </a:r>
            <a:r>
              <a:rPr b="1" lang="pt-BR" sz="2200" spc="-1" strike="noStrike">
                <a:solidFill>
                  <a:srgbClr val="404040"/>
                </a:solidFill>
                <a:latin typeface="Century Gothic"/>
              </a:rPr>
              <a:t>Criança Impulsiva/ indisciplinada- </a:t>
            </a:r>
            <a:r>
              <a:rPr b="0" lang="pt-BR" sz="2200" spc="-1" strike="noStrike">
                <a:solidFill>
                  <a:srgbClr val="404040"/>
                </a:solidFill>
                <a:latin typeface="Century Gothic"/>
              </a:rPr>
              <a:t>Age por impulso para satisfazer suas necessidades e buscar prazer sem considerar limites nem se preocupar com outras pessoas. Esse modo é a criança em seu modo natural, desinibida e “incivilizada”, irresponsável e livre. Peter Pan encarna esse modo. Tem baixa tolerância a frustração e não consegue adiar a gratificação de curto prazo em função de objetivos de longo prazo. Uma pessoa nesse modo é mimada, braba, descuidada, preguiçosa, impaciente, sem foco ou descontrolada.</a:t>
            </a:r>
            <a:endParaRPr b="0" lang="en-US" sz="22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200" spc="-1" strike="noStrike">
                <a:solidFill>
                  <a:srgbClr val="404040"/>
                </a:solidFill>
                <a:latin typeface="Century Gothic"/>
              </a:rPr>
              <a:t>4-</a:t>
            </a:r>
            <a:r>
              <a:rPr b="1" lang="pt-BR" sz="2200" spc="-1" strike="noStrike">
                <a:solidFill>
                  <a:srgbClr val="404040"/>
                </a:solidFill>
                <a:latin typeface="Century Gothic"/>
              </a:rPr>
              <a:t> Criança Feliz- </a:t>
            </a:r>
            <a:r>
              <a:rPr b="0" lang="pt-BR" sz="2200" spc="-1" strike="noStrike">
                <a:solidFill>
                  <a:srgbClr val="404040"/>
                </a:solidFill>
                <a:latin typeface="Century Gothic"/>
              </a:rPr>
              <a:t>sente-se amada e satisfeita. Não se associa a nenhum esquema, pois as necessidades fundamentais da criança foram satisfeitas adequadamente.</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31280" y="-360"/>
            <a:ext cx="87123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Enfrentamento Desadaptativo</a:t>
            </a:r>
            <a:endParaRPr b="0" lang="en-US" sz="3600" spc="-1" strike="noStrike">
              <a:solidFill>
                <a:srgbClr val="262626"/>
              </a:solidFill>
              <a:latin typeface="Century Gothic"/>
            </a:endParaRPr>
          </a:p>
        </p:txBody>
      </p:sp>
      <p:sp>
        <p:nvSpPr>
          <p:cNvPr id="1325" name=""/>
          <p:cNvSpPr txBox="1"/>
          <p:nvPr/>
        </p:nvSpPr>
        <p:spPr>
          <a:xfrm>
            <a:off x="610920" y="1281240"/>
            <a:ext cx="8064360" cy="5316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stes modos de enfrentamento são tentativas da criança de se adaptar à vida com necessidades emocionais não satisfeitas em um ambiente prejudicial. Esses modos de enfrentamento eram adaptativos na infância, mas costumam ser desadaptativos na vida adulta e prejudica o paciente. Existem três tipos: captulador complacente, protetor desligado e hipercompensador. E eles correspondem respectivamente aos processos de manutenção de esquemas de resignação, evitação e hipercompensaçã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324000" y="23400"/>
            <a:ext cx="8640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Enfrentamento Desadaptativo</a:t>
            </a:r>
            <a:endParaRPr b="0" lang="en-US" sz="3600" spc="-1" strike="noStrike">
              <a:solidFill>
                <a:srgbClr val="262626"/>
              </a:solidFill>
              <a:latin typeface="Century Gothic"/>
            </a:endParaRPr>
          </a:p>
        </p:txBody>
      </p:sp>
      <p:sp>
        <p:nvSpPr>
          <p:cNvPr id="1327" name=""/>
          <p:cNvSpPr txBox="1"/>
          <p:nvPr/>
        </p:nvSpPr>
        <p:spPr>
          <a:xfrm>
            <a:off x="539280" y="1304640"/>
            <a:ext cx="8209080" cy="51483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Captulador Complacente-</a:t>
            </a:r>
            <a:r>
              <a:rPr b="0" lang="pt-BR" sz="2400" spc="-1" strike="noStrike">
                <a:solidFill>
                  <a:srgbClr val="404040"/>
                </a:solidFill>
                <a:latin typeface="Century Gothic"/>
              </a:rPr>
              <a:t>A função deste modo é evitar maus-tratos, então submete-se ao esquema como estilo de enfrentamento, os pacientes deste modo parecem passivos e dependentes. Fazem qualquer coisa que o terapeuta e outras pessoas queiram que o façam. Quando neste modo, consideram-se desamparados em face de uma figura mais poderosa. Acham que não tem escolha, a não ser agradar para evitar conflito. São obedientes, permitem que outros abusem deles, os negligenciem, controlem ou desvalorizem para preservar a conexão ou evitar a retaliaçã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50560" y="9000"/>
            <a:ext cx="889308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Enfrentamento Desadaptativo</a:t>
            </a:r>
            <a:endParaRPr b="0" lang="en-US" sz="3600" spc="-1" strike="noStrike">
              <a:solidFill>
                <a:srgbClr val="262626"/>
              </a:solidFill>
              <a:latin typeface="Century Gothic"/>
            </a:endParaRPr>
          </a:p>
        </p:txBody>
      </p:sp>
      <p:sp>
        <p:nvSpPr>
          <p:cNvPr id="1329" name=""/>
          <p:cNvSpPr txBox="1"/>
          <p:nvPr/>
        </p:nvSpPr>
        <p:spPr>
          <a:xfrm>
            <a:off x="539280" y="1290600"/>
            <a:ext cx="8280360" cy="53784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Protetor desligado- </a:t>
            </a:r>
            <a:r>
              <a:rPr b="0" lang="pt-BR" sz="2400" spc="-1" strike="noStrike">
                <a:solidFill>
                  <a:srgbClr val="404040"/>
                </a:solidFill>
                <a:latin typeface="Century Gothic"/>
              </a:rPr>
              <a:t>tenta escapar das emoções que gerem desconforto e ativam esquemas., distancia-se psicologicamente, desligam de pessoas e fecham emoções para se proteger do sofrimento de estar vulnerável, é como uma armadura, sentem-se indiferentes ou vazios, adotando uma postura cínica ou distante, incluem isolamento social, excesso de autoconfiança, busca adictiva de autoconforto, fantasia, distração compulsiva e estimulação, costuma ser o mais difícil. Na infanciafoi uma estratégia adaptativa a um ambiente traumático. Seu refugio acabou por ser uma prisã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24000" y="9000"/>
            <a:ext cx="8640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s Enfrentamento Desadaptativo</a:t>
            </a:r>
            <a:endParaRPr b="0" lang="en-US" sz="3600" spc="-1" strike="noStrike">
              <a:solidFill>
                <a:srgbClr val="262626"/>
              </a:solidFill>
              <a:latin typeface="Century Gothic"/>
            </a:endParaRPr>
          </a:p>
        </p:txBody>
      </p:sp>
      <p:sp>
        <p:nvSpPr>
          <p:cNvPr id="1331" name=""/>
          <p:cNvSpPr txBox="1"/>
          <p:nvPr/>
        </p:nvSpPr>
        <p:spPr>
          <a:xfrm>
            <a:off x="539280" y="1197000"/>
            <a:ext cx="8425080" cy="5184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Hipercompensadores- </a:t>
            </a:r>
            <a:r>
              <a:rPr b="0" lang="pt-BR" sz="2400" spc="-1" strike="noStrike">
                <a:solidFill>
                  <a:srgbClr val="404040"/>
                </a:solidFill>
                <a:latin typeface="Century Gothic"/>
              </a:rPr>
              <a:t>usam a hipercompensação de esquemas como estilo de enfrentamento, usando o oposto do esquema como se fosse verdade, ao se sentir defectivos, tentam parecer perfeitos, culpados acusam os outros, dominados intimidam, usados passam a explorar, inferioridade impressionam com status ou realizações. Alguns hipercompensadores são passivo – agressivos , parecem obedientes mas procrastinam, traem. Já outros obsessivos com ordem.</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944360" y="2340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 Pais Disfuncionais</a:t>
            </a:r>
            <a:endParaRPr b="0" lang="en-US" sz="3600" spc="-1" strike="noStrike">
              <a:solidFill>
                <a:srgbClr val="262626"/>
              </a:solidFill>
              <a:latin typeface="Century Gothic"/>
            </a:endParaRPr>
          </a:p>
        </p:txBody>
      </p:sp>
      <p:sp>
        <p:nvSpPr>
          <p:cNvPr id="1333" name=""/>
          <p:cNvSpPr txBox="1"/>
          <p:nvPr/>
        </p:nvSpPr>
        <p:spPr>
          <a:xfrm>
            <a:off x="755640" y="1196640"/>
            <a:ext cx="8137440" cy="55450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xistem dois tipos mais comuns de pais disfuncionais, normalmente são internalizações de figuras de pai ou mãe , onde tratam a si mesmos como os pais os tratavam na infância. Assumem a voz destes ao falarem sozinhos, os pacientes sentem, pensam e agem como os pais faziam quando estes eram criança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pesar de existir dois tipos mais comuns os pais disfuncionais, podem existir grande variaçõ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43280" y="900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 Pais Disfuncionais</a:t>
            </a:r>
            <a:endParaRPr b="0" lang="en-US" sz="3600" spc="-1" strike="noStrike">
              <a:solidFill>
                <a:srgbClr val="262626"/>
              </a:solidFill>
              <a:latin typeface="Century Gothic"/>
            </a:endParaRPr>
          </a:p>
        </p:txBody>
      </p:sp>
      <p:sp>
        <p:nvSpPr>
          <p:cNvPr id="1335" name=""/>
          <p:cNvSpPr txBox="1"/>
          <p:nvPr/>
        </p:nvSpPr>
        <p:spPr>
          <a:xfrm>
            <a:off x="971640" y="1290240"/>
            <a:ext cx="7704000" cy="51627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Pai/Mãe Punitivo- </a:t>
            </a:r>
            <a:r>
              <a:rPr b="0" lang="pt-BR" sz="2400" spc="-1" strike="noStrike">
                <a:solidFill>
                  <a:srgbClr val="404040"/>
                </a:solidFill>
                <a:latin typeface="Century Gothic"/>
              </a:rPr>
              <a:t>pune com raiva, critica ou restringe a criança por expressar suas necessidades ou cometer erros. Este modo é comum em border ou depressão grave. Entram nesse modo dizendo a si mesmos que são sujos, maus, ou se comportam mal, e punem-se cortando-se, dessa forma seriam os pais punitvos aplicando punição na criança vulnerável. Alternam entre um e outro, ora são crianças que sofrem o abuso ora são os pais que cometem abus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1942920" y="23400"/>
            <a:ext cx="65912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 Pais Disfuncionais</a:t>
            </a:r>
            <a:endParaRPr b="0" lang="en-US" sz="3600" spc="-1" strike="noStrike">
              <a:solidFill>
                <a:srgbClr val="262626"/>
              </a:solidFill>
              <a:latin typeface="Century Gothic"/>
            </a:endParaRPr>
          </a:p>
        </p:txBody>
      </p:sp>
      <p:sp>
        <p:nvSpPr>
          <p:cNvPr id="1337" name=""/>
          <p:cNvSpPr txBox="1"/>
          <p:nvPr/>
        </p:nvSpPr>
        <p:spPr>
          <a:xfrm>
            <a:off x="1116000" y="1304640"/>
            <a:ext cx="7632720" cy="51483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400" spc="-1" strike="noStrike">
                <a:solidFill>
                  <a:srgbClr val="404040"/>
                </a:solidFill>
                <a:latin typeface="Century Gothic"/>
              </a:rPr>
              <a:t>Pai/ Mãe exigente- </a:t>
            </a:r>
            <a:r>
              <a:rPr b="0" lang="pt-BR" sz="2400" spc="-1" strike="noStrike">
                <a:solidFill>
                  <a:srgbClr val="404040"/>
                </a:solidFill>
                <a:latin typeface="Century Gothic"/>
              </a:rPr>
              <a:t>pressiona a criança para que atinja as expectativas exageradamente altas estabelecidas. Acredita que a forma certa de agir é a perfeição e a errada a falibilidade ou espontaneidade, comum em Narcisistas ou TOC, definem padrões elevados a si mesmos e se pressionam para cumpri-los, não são necessariamente punitivos. É mais comum sentirem vergonha após não conseguirem atingir seu padrão de perfeição, e acabam punido-se.</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963800" y="11556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Modo Adulto Saudável</a:t>
            </a:r>
            <a:endParaRPr b="0" lang="en-US" sz="3600" spc="-1" strike="noStrike">
              <a:solidFill>
                <a:srgbClr val="262626"/>
              </a:solidFill>
              <a:latin typeface="Century Gothic"/>
            </a:endParaRPr>
          </a:p>
        </p:txBody>
      </p:sp>
      <p:sp>
        <p:nvSpPr>
          <p:cNvPr id="1339" name=""/>
          <p:cNvSpPr txBox="1"/>
          <p:nvPr/>
        </p:nvSpPr>
        <p:spPr>
          <a:xfrm>
            <a:off x="324000" y="1125360"/>
            <a:ext cx="8640720" cy="5616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Ajuda a satisfazer as necessidades emocionais básicas da criança. Fortalecer o adulto saudável ajuda a satisfazer as necessidades emocionais da criança. Construir ou fortalecer este modo é o objetivo global. Quando este modo inexiste o terapeuta passa a ser o modelo. Como um bom pai/mãe cumprir as 3 funções básicas:</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1- dar carinho, reassegurar e proteger a criança vulnerável.</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2- estabelecer limites para a criança zangada e a impulsiva, com reciprocidade e autodisciplina</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3- combater ou moderar os modos pai/mãe disfuncional e de enfrentamento desadaptativos</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Servir de adulto saudável, sempre que o paciente não conseguir</a:t>
            </a:r>
            <a:endParaRPr b="0" lang="en-US" sz="20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000" spc="-1" strike="noStrike">
                <a:solidFill>
                  <a:srgbClr val="404040"/>
                </a:solidFill>
                <a:latin typeface="Century Gothic"/>
              </a:rPr>
              <a:t>Sendo modelo, aos poucos o paciente conseguirá assumir tal papel. (reparação parental limitada)</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0" y="1928880"/>
          <a:ext cx="9144000" cy="4092480"/>
        </p:xfrm>
        <a:graphic>
          <a:graphicData uri="http://schemas.openxmlformats.org/drawingml/2006/table">
            <a:tbl>
              <a:tblPr/>
              <a:tblGrid>
                <a:gridCol w="9144000"/>
              </a:tblGrid>
              <a:tr h="71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 Desconexão e Rejeição</a:t>
                      </a:r>
                      <a:endParaRPr b="0" lang="en-US" sz="2400" spc="-1" strike="noStrike">
                        <a:solidFill>
                          <a:srgbClr val="000000"/>
                        </a:solidFill>
                        <a:latin typeface="Arial"/>
                      </a:endParaRPr>
                    </a:p>
                  </a:txBody>
                  <a:tcPr anchor="t" marL="90000" marR="90000">
                    <a:lnL>
                      <a:noFill/>
                    </a:lnL>
                    <a:lnR>
                      <a:noFill/>
                    </a:lnR>
                    <a:lnT w="5760">
                      <a:solidFill>
                        <a:srgbClr val="92278f"/>
                      </a:solidFill>
                    </a:lnT>
                    <a:lnB w="5760">
                      <a:solidFill>
                        <a:srgbClr val="92278f"/>
                      </a:solidFill>
                    </a:lnB>
                    <a:noFill/>
                  </a:tcPr>
                </a:tc>
              </a:tr>
              <a:tr h="81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I- Autonomia e desempenho prejudicados</a:t>
                      </a:r>
                      <a:endParaRPr b="0" lang="en-US" sz="2400" spc="-1" strike="noStrike">
                        <a:solidFill>
                          <a:srgbClr val="000000"/>
                        </a:solidFill>
                        <a:latin typeface="Arial"/>
                      </a:endParaRPr>
                    </a:p>
                  </a:txBody>
                  <a:tcPr anchor="t" marL="90000" marR="90000">
                    <a:lnL>
                      <a:noFill/>
                    </a:lnL>
                    <a:lnR>
                      <a:noFill/>
                    </a:lnR>
                    <a:lnT w="5760">
                      <a:solidFill>
                        <a:srgbClr val="92278f"/>
                      </a:solidFill>
                    </a:lnT>
                    <a:lnB>
                      <a:noFill/>
                    </a:lnB>
                    <a:solidFill>
                      <a:srgbClr val="92278f">
                        <a:alpha val="20000"/>
                      </a:srgbClr>
                    </a:solid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II- Limites Prejudicados</a:t>
                      </a:r>
                      <a:endParaRPr b="0" lang="en-US" sz="2400" spc="-1" strike="noStrike">
                        <a:solidFill>
                          <a:srgbClr val="000000"/>
                        </a:solidFill>
                        <a:latin typeface="Arial"/>
                      </a:endParaRPr>
                    </a:p>
                  </a:txBody>
                  <a:tcPr anchor="t" marL="90000" marR="90000">
                    <a:lnL>
                      <a:noFill/>
                    </a:lnL>
                    <a:lnR>
                      <a:noFill/>
                    </a:lnR>
                    <a:lnT>
                      <a:noFill/>
                    </a:lnT>
                    <a:lnB>
                      <a:noFill/>
                    </a:lnB>
                    <a:no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V- Direcionamento para o outr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92278f">
                        <a:alpha val="20000"/>
                      </a:srgbClr>
                    </a:solid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V- Supervigilância e Inibição</a:t>
                      </a:r>
                      <a:endParaRPr b="0" lang="en-US" sz="2400" spc="-1" strike="noStrike">
                        <a:solidFill>
                          <a:srgbClr val="000000"/>
                        </a:solidFill>
                        <a:latin typeface="Arial"/>
                      </a:endParaRPr>
                    </a:p>
                  </a:txBody>
                  <a:tcPr anchor="t" marL="90000" marR="90000">
                    <a:lnL>
                      <a:noFill/>
                    </a:lnL>
                    <a:lnR>
                      <a:noFill/>
                    </a:lnR>
                    <a:lnT>
                      <a:noFill/>
                    </a:lnT>
                    <a:lnB w="5760">
                      <a:solidFill>
                        <a:srgbClr val="92278f"/>
                      </a:solidFill>
                    </a:lnB>
                    <a:solidFill>
                      <a:srgbClr val="92278f">
                        <a:alpha val="20000"/>
                      </a:srgbClr>
                    </a:solidFill>
                  </a:tcPr>
                </a:tc>
              </a:tr>
            </a:tbl>
          </a:graphicData>
        </a:graphic>
      </p:graphicFrame>
      <p:sp>
        <p:nvSpPr>
          <p:cNvPr id="1198" name="CaixaDeTexto 5"/>
          <p:cNvSpPr/>
          <p:nvPr/>
        </p:nvSpPr>
        <p:spPr>
          <a:xfrm>
            <a:off x="1692360" y="260280"/>
            <a:ext cx="5715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strutura dos Esquemas por Domín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395280" y="9000"/>
            <a:ext cx="82836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7 Passos no Trabalho com Modos</a:t>
            </a:r>
            <a:endParaRPr b="0" lang="en-US" sz="3600" spc="-1" strike="noStrike">
              <a:solidFill>
                <a:srgbClr val="262626"/>
              </a:solidFill>
              <a:latin typeface="Century Gothic"/>
            </a:endParaRPr>
          </a:p>
        </p:txBody>
      </p:sp>
      <p:sp>
        <p:nvSpPr>
          <p:cNvPr id="1341" name=""/>
          <p:cNvSpPr txBox="1"/>
          <p:nvPr/>
        </p:nvSpPr>
        <p:spPr>
          <a:xfrm>
            <a:off x="561960" y="981000"/>
            <a:ext cx="8569440" cy="5732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1- identificar e dar nome aos mod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2- explorar a origem e (quando for o caso) o valor adaptativo dos modos na infância ou adolescênci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3- relacionar os modos desadaptativos a problemas e sintomas atuai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4- demosntrar as vantagens de modificar um mo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5- acessar a criança vulnerável por meio de imagens mentai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6- realizar diálogos entre os modos. Terapeuta representa o adulto saudável, depois o paciente repete</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7- generalizar os modos na terapia na vida do paciente</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Conceituação de caso</a:t>
            </a:r>
            <a:endParaRPr b="0" lang="en-US" sz="3600" spc="-1" strike="noStrike">
              <a:solidFill>
                <a:srgbClr val="262626"/>
              </a:solidFill>
              <a:latin typeface="Century Gothic"/>
            </a:endParaRPr>
          </a:p>
        </p:txBody>
      </p:sp>
      <p:sp>
        <p:nvSpPr>
          <p:cNvPr id="134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1800" spc="-1" strike="noStrike">
                <a:solidFill>
                  <a:srgbClr val="404040"/>
                </a:solidFill>
                <a:latin typeface="Century Gothic"/>
              </a:rPr>
              <a:t> </a:t>
            </a:r>
            <a:r>
              <a:rPr b="0" lang="pt-BR" sz="1800" spc="-1" strike="noStrike">
                <a:solidFill>
                  <a:srgbClr val="404040"/>
                </a:solidFill>
                <a:latin typeface="Century Gothic"/>
              </a:rPr>
              <a:t>dar modelo</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108000" y="17640"/>
            <a:ext cx="90360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Avaliando a adequação do paciente à Terapia de Esquemas</a:t>
            </a:r>
            <a:endParaRPr b="0" lang="en-US" sz="3600" spc="-1" strike="noStrike">
              <a:solidFill>
                <a:srgbClr val="262626"/>
              </a:solidFill>
              <a:latin typeface="Century Gothic"/>
            </a:endParaRPr>
          </a:p>
        </p:txBody>
      </p:sp>
      <p:sp>
        <p:nvSpPr>
          <p:cNvPr id="1345" name=""/>
          <p:cNvSpPr txBox="1"/>
          <p:nvPr/>
        </p:nvSpPr>
        <p:spPr>
          <a:xfrm>
            <a:off x="539640" y="1298160"/>
            <a:ext cx="7994880" cy="46134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Repensar a abordagem quan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1- crise profunda em alguma área da sua vid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2- o paciente é psicótic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3- tem transtorno do eixo I agudo não trata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4- atualmente usa drogas ou álcool em nível grave a modera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5- o problema atual é situacional e não parece relacionar-se a um padrão na vid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971640" y="3240"/>
            <a:ext cx="754704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QUESTIONÁRIO DE ESQUEMAS</a:t>
            </a:r>
            <a:endParaRPr b="0" lang="en-US" sz="3600" spc="-1" strike="noStrike">
              <a:solidFill>
                <a:srgbClr val="262626"/>
              </a:solidFill>
              <a:latin typeface="Century Gothic"/>
            </a:endParaRPr>
          </a:p>
        </p:txBody>
      </p:sp>
      <p:sp>
        <p:nvSpPr>
          <p:cNvPr id="1347" name=""/>
          <p:cNvSpPr txBox="1"/>
          <p:nvPr/>
        </p:nvSpPr>
        <p:spPr>
          <a:xfrm>
            <a:off x="468000" y="1284120"/>
            <a:ext cx="8351640" cy="50976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Há várias formas de avaliar, como pegar cada escore 5 ou 6 e perguntar “você pode falar mais sobre como essa afirmação se relaciona com sua vida?” dessa forma, transmite-se também a essência do esquema, psicoeducar sobre cada um.</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Questiona-se aspectos incoerentes de resposta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Trabalhar resistências de preenchimento e de respostas em branc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1974960" y="3132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Inventário Parental</a:t>
            </a:r>
            <a:endParaRPr b="0" lang="en-US" sz="3600" spc="-1" strike="noStrike">
              <a:solidFill>
                <a:srgbClr val="262626"/>
              </a:solidFill>
              <a:latin typeface="Century Gothic"/>
            </a:endParaRPr>
          </a:p>
        </p:txBody>
      </p:sp>
      <p:sp>
        <p:nvSpPr>
          <p:cNvPr id="1349" name=""/>
          <p:cNvSpPr txBox="1"/>
          <p:nvPr/>
        </p:nvSpPr>
        <p:spPr>
          <a:xfrm>
            <a:off x="899640" y="1484280"/>
            <a:ext cx="7775640" cy="46814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Um dos meios básicos de identificar a origem dos esquemas, questionário onde no questionário coloca na escala pai/ mãe e/ou outro cuidador, classificando as respostas de acordo com o comportamento de cada um nas hipótese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as é esperado que se desenvolva o esquema, pode acontecer de não ter desenvolvido mesmo com respostas altas e isso se dá por diversos fator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16280" y="3132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Estratégias Cognitivas</a:t>
            </a:r>
            <a:endParaRPr b="0" lang="en-US" sz="3600" spc="-1" strike="noStrike">
              <a:solidFill>
                <a:srgbClr val="262626"/>
              </a:solidFill>
              <a:latin typeface="Century Gothic"/>
            </a:endParaRPr>
          </a:p>
        </p:txBody>
      </p:sp>
      <p:sp>
        <p:nvSpPr>
          <p:cNvPr id="1351" name=""/>
          <p:cNvSpPr txBox="1"/>
          <p:nvPr/>
        </p:nvSpPr>
        <p:spPr>
          <a:xfrm>
            <a:off x="611280" y="1312560"/>
            <a:ext cx="8208720" cy="49244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pós completar a fase de avaliação e psicoeducação, terapeuta e pacientes estão prontos para começar a fase de mudanç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s estratégias cognitivas ajudam o paciente a expressar de forma mais saudável de questionar o esquema, fortalecendo o adulto saudáve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stilo terapêutico – confrontação empátic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1934640" y="189000"/>
            <a:ext cx="6589800" cy="1280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200" spc="-1" strike="noStrike">
                <a:solidFill>
                  <a:srgbClr val="404040"/>
                </a:solidFill>
                <a:latin typeface="Calibri"/>
              </a:rPr>
              <a:t>Técnicas cognitivas: </a:t>
            </a:r>
            <a:br>
              <a:rPr sz="3200"/>
            </a:br>
            <a:endParaRPr b="0" lang="en-US" sz="3200" spc="-1" strike="noStrike">
              <a:solidFill>
                <a:srgbClr val="262626"/>
              </a:solidFill>
              <a:latin typeface="Century Gothic"/>
            </a:endParaRPr>
          </a:p>
        </p:txBody>
      </p:sp>
      <p:sp>
        <p:nvSpPr>
          <p:cNvPr id="1353" name=""/>
          <p:cNvSpPr txBox="1"/>
          <p:nvPr/>
        </p:nvSpPr>
        <p:spPr>
          <a:xfrm>
            <a:off x="539640" y="1341000"/>
            <a:ext cx="8064720" cy="5327640"/>
          </a:xfrm>
          <a:prstGeom prst="rect">
            <a:avLst/>
          </a:prstGeom>
          <a:noFill/>
          <a:ln w="0">
            <a:noFill/>
          </a:ln>
        </p:spPr>
        <p:txBody>
          <a:bodyPr anchor="t">
            <a:normAutofit/>
          </a:bodyPr>
          <a:p>
            <a:pPr marL="630360" indent="179280">
              <a:lnSpc>
                <a:spcPct val="90000"/>
              </a:lnSpc>
              <a:spcBef>
                <a:spcPts val="1001"/>
              </a:spcBef>
              <a:buClr>
                <a:srgbClr val="92278f"/>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2600" spc="-1" strike="noStrike">
                <a:solidFill>
                  <a:srgbClr val="404040"/>
                </a:solidFill>
                <a:latin typeface="Calibri"/>
              </a:rPr>
              <a:t>Testar validade de um esquema</a:t>
            </a:r>
            <a:r>
              <a:rPr b="0" lang="pt-BR" sz="2600" spc="-1" strike="noStrike">
                <a:solidFill>
                  <a:srgbClr val="404040"/>
                </a:solidFill>
                <a:latin typeface="Calibri"/>
              </a:rPr>
              <a:t>:</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examinar criticamente as evidências comprobatórias</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revisar as evidências que contradizem o esquema</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ilustrar como o paciente descarta evidencias</a:t>
            </a:r>
            <a:endParaRPr b="0" lang="en-US" sz="2600" spc="-1" strike="noStrike">
              <a:solidFill>
                <a:srgbClr val="404040"/>
              </a:solidFill>
              <a:latin typeface="Century Gothic"/>
            </a:endParaRPr>
          </a:p>
          <a:p>
            <a:pPr marL="630360" indent="17928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contraditórias</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Desacreditar as evidencias que sustentam o esquema</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criar cartões que contradigam os esquemas</a:t>
            </a:r>
            <a:endParaRPr b="0" lang="en-US" sz="2600" spc="-1" strike="noStrike">
              <a:solidFill>
                <a:srgbClr val="404040"/>
              </a:solidFill>
              <a:latin typeface="Century Gothic"/>
            </a:endParaRPr>
          </a:p>
          <a:p>
            <a:pPr marL="630360" indent="179280">
              <a:lnSpc>
                <a:spcPct val="90000"/>
              </a:lnSpc>
              <a:spcBef>
                <a:spcPts val="1001"/>
              </a:spcBef>
              <a:buClr>
                <a:srgbClr val="92278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contestar o esquema sempre que ele for ativado</a:t>
            </a:r>
            <a:endParaRPr b="0" lang="en-US" sz="2600" spc="-1" strike="noStrike">
              <a:solidFill>
                <a:srgbClr val="404040"/>
              </a:solidFill>
              <a:latin typeface="Century Gothic"/>
            </a:endParaRPr>
          </a:p>
          <a:p>
            <a:pPr marL="630360" indent="17928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BR" sz="2600" spc="-1" strike="noStrike">
                <a:solidFill>
                  <a:srgbClr val="404040"/>
                </a:solidFill>
                <a:latin typeface="Calibri"/>
              </a:rPr>
              <a:t>  </a:t>
            </a:r>
            <a:r>
              <a:rPr b="0" lang="pt-BR" sz="2600" spc="-1" strike="noStrike">
                <a:solidFill>
                  <a:srgbClr val="404040"/>
                </a:solidFill>
                <a:latin typeface="Calibri"/>
              </a:rPr>
              <a:t>durante a sessão de terapia ou fora dela.</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1944360" y="900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600" spc="-1" strike="noStrike">
                <a:solidFill>
                  <a:srgbClr val="404040"/>
                </a:solidFill>
                <a:latin typeface="Calibri"/>
              </a:rPr>
              <a:t>Técnicas cognitivas: </a:t>
            </a:r>
            <a:br>
              <a:rPr sz="3600"/>
            </a:br>
            <a:endParaRPr b="0" lang="en-US" sz="3600" spc="-1" strike="noStrike">
              <a:solidFill>
                <a:srgbClr val="262626"/>
              </a:solidFill>
              <a:latin typeface="Century Gothic"/>
            </a:endParaRPr>
          </a:p>
        </p:txBody>
      </p:sp>
      <p:sp>
        <p:nvSpPr>
          <p:cNvPr id="1355" name=""/>
          <p:cNvSpPr txBox="1"/>
          <p:nvPr/>
        </p:nvSpPr>
        <p:spPr>
          <a:xfrm>
            <a:off x="899640" y="1290240"/>
            <a:ext cx="7634520" cy="46213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valiando as vantagens e desvantagens das respostas de enfrentamento do paciente</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iálogo entre o polo do esquema e o polo saudáve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iário de esquemas- identificar gatilhos em forma de situações, emoções, pensamentos, comportamentos, esquemas, visão saudável, preocupações realistas, reações exageradas e comportamento saudáve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94436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Estratégias Vivenciais</a:t>
            </a:r>
            <a:endParaRPr b="0" lang="en-US" sz="3600" spc="-1" strike="noStrike">
              <a:solidFill>
                <a:srgbClr val="262626"/>
              </a:solidFill>
              <a:latin typeface="Century Gothic"/>
            </a:endParaRPr>
          </a:p>
        </p:txBody>
      </p:sp>
      <p:sp>
        <p:nvSpPr>
          <p:cNvPr id="1357" name=""/>
          <p:cNvSpPr txBox="1"/>
          <p:nvPr/>
        </p:nvSpPr>
        <p:spPr>
          <a:xfrm>
            <a:off x="539280" y="1280880"/>
            <a:ext cx="8209080" cy="50274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Objetivos: (1) ativar emoções conectadas a EIDS (2) realizara reparação parental com o paciente, a fim de curar essas emoções e satisfazer parcialmente suas necessidades não atendidas na infânci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Lugar segur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da infância: 1- qualquer iamgem desagradável da infância; 2- uma imagem desagradável de cada um dos pais. 3- imagens desagradáveis de quaisquer outra pessoa importante, incluindo colegas e amigo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44360" y="6480"/>
            <a:ext cx="65898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Estratégias Vivenciais para a mudança</a:t>
            </a:r>
            <a:endParaRPr b="0" lang="en-US" sz="3600" spc="-1" strike="noStrike">
              <a:solidFill>
                <a:srgbClr val="262626"/>
              </a:solidFill>
              <a:latin typeface="Century Gothic"/>
            </a:endParaRPr>
          </a:p>
        </p:txBody>
      </p:sp>
      <p:sp>
        <p:nvSpPr>
          <p:cNvPr id="1359" name=""/>
          <p:cNvSpPr txBox="1"/>
          <p:nvPr/>
        </p:nvSpPr>
        <p:spPr>
          <a:xfrm>
            <a:off x="900000" y="1287360"/>
            <a:ext cx="8136000" cy="52372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iálogos nas imagens mentais – raiv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Trabalho com imagens mentais para a reparação parental (1)terapeuta fala com a criança vulnerável (2) terapeuta realiza reparação parental (3) adulto saudável do paciente realiza reparação com a criança vulnerável </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emórias traumática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arta aos pai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para romper padrões de enfrentament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0" y="152280"/>
            <a:ext cx="8229600" cy="6098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Esquemas Cognitivos</a:t>
            </a:r>
            <a:endParaRPr b="0" lang="en-US" sz="2900" spc="-1" strike="noStrike">
              <a:solidFill>
                <a:srgbClr val="262626"/>
              </a:solidFill>
              <a:latin typeface="Century Gothic"/>
            </a:endParaRPr>
          </a:p>
        </p:txBody>
      </p:sp>
      <p:sp>
        <p:nvSpPr>
          <p:cNvPr id="1200" name="Espaço Reservado para Número de Slide 3"/>
          <p:cNvSpPr/>
          <p:nvPr/>
        </p:nvSpPr>
        <p:spPr>
          <a:xfrm>
            <a:off x="6553080" y="54291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933C-BD2F-45E2-9D7F-0A0754B440BE}" type="slidenum">
              <a:rPr b="0" lang="pt-BR" sz="1200" spc="-1" strike="noStrike">
                <a:solidFill>
                  <a:srgbClr val="002060"/>
                </a:solidFill>
                <a:latin typeface="Calibri"/>
              </a:rPr>
              <a:t>&lt;number&gt;</a:t>
            </a:fld>
            <a:endParaRPr b="0" lang="en-US" sz="1200" spc="-1" strike="noStrike">
              <a:solidFill>
                <a:srgbClr val="000000"/>
              </a:solidFill>
              <a:latin typeface="Arial"/>
            </a:endParaRPr>
          </a:p>
        </p:txBody>
      </p:sp>
      <p:sp>
        <p:nvSpPr>
          <p:cNvPr id="1201" name="Retângulo 4"/>
          <p:cNvSpPr/>
          <p:nvPr/>
        </p:nvSpPr>
        <p:spPr>
          <a:xfrm>
            <a:off x="357120" y="1071720"/>
            <a:ext cx="82868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Os esquemas primitivos mal-adaptativos perpetuam-se por três formas principa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 Young, Klosko, Weishaar, 200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 </a:t>
            </a:r>
            <a:r>
              <a:rPr b="1" lang="pt-BR" sz="1800" spc="-1" strike="noStrike">
                <a:solidFill>
                  <a:srgbClr val="000000"/>
                </a:solidFill>
                <a:latin typeface="Calibri"/>
              </a:rPr>
              <a:t>Manutenção do esquema</a:t>
            </a:r>
            <a:r>
              <a:rPr b="0" lang="pt-BR" sz="1800" spc="-1" strike="noStrike">
                <a:solidFill>
                  <a:srgbClr val="000000"/>
                </a:solidFill>
                <a:latin typeface="Calibri"/>
              </a:rPr>
              <a:t>: pensar e se comportar de maneiras que reforçam o esquema. Acontece nos casos de “profecia autoconfirmatória”: a pessoa tem um esquema relacionado com, digamos, ser abandonada; acaba agindo de uma forma que provoca os outros a abandonarem-na, confirmando, assim, sua “profecia” de que seria abandonad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 </a:t>
            </a:r>
            <a:r>
              <a:rPr b="1" lang="pt-BR" sz="1800" spc="-1" strike="noStrike">
                <a:solidFill>
                  <a:srgbClr val="000000"/>
                </a:solidFill>
                <a:latin typeface="Calibri"/>
              </a:rPr>
              <a:t>Evitação do esquema</a:t>
            </a:r>
            <a:r>
              <a:rPr b="0" lang="pt-BR" sz="1800" spc="-1" strike="noStrike">
                <a:solidFill>
                  <a:srgbClr val="000000"/>
                </a:solidFill>
                <a:latin typeface="Calibri"/>
              </a:rPr>
              <a:t>: procurar maneiras de evitar a ativação dos esquemas e o sofrimento associado. Exemplo: com o esquema de ser vulnerável, o indivíduo tente manter controle obsessivo sobre as cois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 </a:t>
            </a:r>
            <a:r>
              <a:rPr b="1" lang="pt-BR" sz="1800" spc="-1" strike="noStrike">
                <a:solidFill>
                  <a:srgbClr val="000000"/>
                </a:solidFill>
                <a:latin typeface="Calibri"/>
              </a:rPr>
              <a:t>Compensação do esquema</a:t>
            </a:r>
            <a:r>
              <a:rPr b="0" lang="pt-BR" sz="1800" spc="-1" strike="noStrike">
                <a:solidFill>
                  <a:srgbClr val="000000"/>
                </a:solidFill>
                <a:latin typeface="Calibri"/>
              </a:rPr>
              <a:t>: agir aparentemente de forma a contradizer o esquema. Exemplo: com o esquema de ser inadequado (e, portanto, incapaz de ser amado), o indivíduo acaba se relacionando com muitas mulheres (mas com nenhuma integralm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Dar modelo para acompanhar com cada esqu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22040" y="189000"/>
            <a:ext cx="658980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Superando Obstáculos com Trabalho de Imagens</a:t>
            </a:r>
            <a:endParaRPr b="0" lang="en-US" sz="3600" spc="-1" strike="noStrike">
              <a:solidFill>
                <a:srgbClr val="262626"/>
              </a:solidFill>
              <a:latin typeface="Century Gothic"/>
            </a:endParaRPr>
          </a:p>
        </p:txBody>
      </p:sp>
      <p:sp>
        <p:nvSpPr>
          <p:cNvPr id="1361" name=""/>
          <p:cNvSpPr txBox="1"/>
          <p:nvPr/>
        </p:nvSpPr>
        <p:spPr>
          <a:xfrm>
            <a:off x="971280" y="1469520"/>
            <a:ext cx="7993080" cy="53881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ducando sobre a importância do trabalho com imagen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sperar e dar permiss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de relaxamento com aumento gradual de força dos afet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Medicaç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Trabalho corpora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iálogo com protetor desliga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conectadas a uma emoç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conectadas a sintomas somático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331640" y="2340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ompimento de Padrões Comportamentais</a:t>
            </a:r>
            <a:endParaRPr b="0" lang="en-US" sz="3600" spc="-1" strike="noStrike">
              <a:solidFill>
                <a:srgbClr val="262626"/>
              </a:solidFill>
              <a:latin typeface="Century Gothic"/>
            </a:endParaRPr>
          </a:p>
        </p:txBody>
      </p:sp>
      <p:sp>
        <p:nvSpPr>
          <p:cNvPr id="1363" name=""/>
          <p:cNvSpPr txBox="1"/>
          <p:nvPr/>
        </p:nvSpPr>
        <p:spPr>
          <a:xfrm>
            <a:off x="468000" y="1305000"/>
            <a:ext cx="8351640" cy="5076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Rompimento de Estilos de enfrentament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Refinamento da conceituação de caso- revendo os estilos de enfrentamento dos esquemas – lista de comportamentos a serem modificados dentro de cada áre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escrição detalhada de comportamentos problemátic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de situações ativadora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Relatos de pessoas importante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Priorizar quais comportamentos a mudar</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meçar com o mais problemátic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1476360" y="-360"/>
            <a:ext cx="65880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ompimento de Padrões Comportamentais</a:t>
            </a:r>
            <a:endParaRPr b="0" lang="en-US" sz="3600" spc="-1" strike="noStrike">
              <a:solidFill>
                <a:srgbClr val="262626"/>
              </a:solidFill>
              <a:latin typeface="Century Gothic"/>
            </a:endParaRPr>
          </a:p>
        </p:txBody>
      </p:sp>
      <p:sp>
        <p:nvSpPr>
          <p:cNvPr id="1365" name=""/>
          <p:cNvSpPr txBox="1"/>
          <p:nvPr/>
        </p:nvSpPr>
        <p:spPr>
          <a:xfrm>
            <a:off x="773280" y="1817280"/>
            <a:ext cx="7992720" cy="50403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nectar o comportamento alvo- a suas origens na infânci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nalisar vantagens e desvantagens de continuar com o comportament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laborando cartão –lembrete</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nsaiando o comportamento saudável em imagens mentais e dramatizaçõe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mbinando uma tarefa de casa</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44360" y="1155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Superando bloqueios à mudança comportamental</a:t>
            </a:r>
            <a:endParaRPr b="0" lang="en-US" sz="3600" spc="-1" strike="noStrike">
              <a:solidFill>
                <a:srgbClr val="262626"/>
              </a:solidFill>
              <a:latin typeface="Century Gothic"/>
            </a:endParaRPr>
          </a:p>
        </p:txBody>
      </p:sp>
      <p:sp>
        <p:nvSpPr>
          <p:cNvPr id="1367" name=""/>
          <p:cNvSpPr txBox="1"/>
          <p:nvPr/>
        </p:nvSpPr>
        <p:spPr>
          <a:xfrm>
            <a:off x="971280" y="1397160"/>
            <a:ext cx="7848360" cy="52005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mpreensão do bloquei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magens mentais para compreender o bloquei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ialogos entre o bloqueio e o polo saudáve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artões lembrete</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esmembrar a taref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ntingencias </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Fazendo mudanças de vida important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476360" y="-360"/>
            <a:ext cx="65880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A RELAÇÃO TERAPEUTICA</a:t>
            </a:r>
            <a:endParaRPr b="0" lang="en-US" sz="3600" spc="-1" strike="noStrike">
              <a:solidFill>
                <a:srgbClr val="262626"/>
              </a:solidFill>
              <a:latin typeface="Century Gothic"/>
            </a:endParaRPr>
          </a:p>
        </p:txBody>
      </p:sp>
      <p:sp>
        <p:nvSpPr>
          <p:cNvPr id="1369" name=""/>
          <p:cNvSpPr txBox="1"/>
          <p:nvPr/>
        </p:nvSpPr>
        <p:spPr>
          <a:xfrm>
            <a:off x="826560" y="1412640"/>
            <a:ext cx="7993080" cy="48956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Postura terapêutica de confronto empático e uso de reparação parental limitada.</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Corporificar a empatia, o carinho e a autenticidade. (Rogers, 1951)</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Ser pessoal na forma de se relacionar.</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valiar necessidades de reparação parental</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Flexibilidade</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squemas e estilos de enfrentamento do terapeuta</a:t>
            </a:r>
            <a:endParaRPr b="0" lang="en-US" sz="2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1933560" y="11556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71" name=""/>
          <p:cNvSpPr txBox="1"/>
          <p:nvPr/>
        </p:nvSpPr>
        <p:spPr>
          <a:xfrm>
            <a:off x="755280" y="1396800"/>
            <a:ext cx="8064360" cy="4911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bandono/ instabilidade- o terapeuta torna-se uma fonte transitória de estabilidade, acabando por ajudar o paciente a encontrar outros relacionamentos estáveis fora da terapia, ele corrige distorções com relação à probabilidade de que venha a abandonar o paciente. O terapeuta ajuda o paciente a aceitar suas viagens, férias e não-disponibilidade sem se fechar ou se comportar de forma autodestrutiv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944360" y="1155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73" name=""/>
          <p:cNvSpPr txBox="1"/>
          <p:nvPr/>
        </p:nvSpPr>
        <p:spPr>
          <a:xfrm>
            <a:off x="1187280" y="1396800"/>
            <a:ext cx="7561440" cy="48402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esconfiança/ Abuso- o terapeuta é completamente digno de confiança, honesto e verdadeiro com o paciente. Ele pergunta regularmente sobre confiança e intimidade, e discute quaisquer sentimentos negativos que o paciente tenha em relação a ele. Para fortalecer a confiança do paciente, quando necessário, posterga o trabalho vivencial e avança lentamente pela memórias traumática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944360" y="189000"/>
            <a:ext cx="658980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75" name=""/>
          <p:cNvSpPr txBox="1"/>
          <p:nvPr/>
        </p:nvSpPr>
        <p:spPr>
          <a:xfrm>
            <a:off x="1116000" y="1469520"/>
            <a:ext cx="7632720" cy="483876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Privação emocional- o terapeuta proporciona um clima de cuidado, com carinho, empatia e orientação. O terapeuta estimula o paciente a pedir aquilo que necessita emocionalmente e a se sentir merecedor de necessidades emocionais. O terapeuta o auxilia a expressar sentimentos de privação sem agredir ou sem permanecer em silêncio. Ajuda o paciente a aceitar as limitações do terapeuta e a tolerar um pouco de privação enquanto aprecia o cuidado disponibilizad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2123640" y="115560"/>
            <a:ext cx="6410520" cy="1297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77" name=""/>
          <p:cNvSpPr txBox="1"/>
          <p:nvPr/>
        </p:nvSpPr>
        <p:spPr>
          <a:xfrm>
            <a:off x="900000" y="1267920"/>
            <a:ext cx="7848720" cy="49690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efectividade- o terapeuta tem uma postura de aceitação, e não de julgamento. Ele gosta do paciente, apesar das falhas deste. Está disposto a ser imperfeito, compartilhando pequenas fragilidades com o paciente, e a elogiá-lo com maior frequência possível, sem parecer fals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solamento social- o terapeuta destaca semelhanças entre ele e o paciente, bem como diferenças, mostrando que mesmo assim, ambos são compatívei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1918800" y="3240"/>
            <a:ext cx="658980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79" name=""/>
          <p:cNvSpPr txBox="1"/>
          <p:nvPr/>
        </p:nvSpPr>
        <p:spPr>
          <a:xfrm>
            <a:off x="1186920" y="1283760"/>
            <a:ext cx="7705800" cy="516924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Dependência/ Incompetência- o terapeuta resiste a tentativas do paciente de assumir um papel dependente. Estimula os pacientes a tomar suas próprias decisões, e elogia os julgamentos de decisões tomadas com acert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Vulnerabilidade ao dano ou à doença- o terapeuta desestimula a dependência em relação a ele para se sentir seguro quanto ao risco de andar no mundo. O terapeuta expressa uma confiança calma na capacidade do paciente de dar conta de situações fóbicas e de enfermidad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I- Desconexão e Rejeição</a:t>
            </a:r>
            <a:endParaRPr b="0" lang="en-US" sz="3600" spc="-1" strike="noStrike">
              <a:solidFill>
                <a:srgbClr val="262626"/>
              </a:solidFill>
              <a:latin typeface="Century Gothic"/>
            </a:endParaRPr>
          </a:p>
        </p:txBody>
      </p:sp>
      <p:sp>
        <p:nvSpPr>
          <p:cNvPr id="1203" name=""/>
          <p:cNvSpPr txBox="1"/>
          <p:nvPr/>
        </p:nvSpPr>
        <p:spPr>
          <a:xfrm>
            <a:off x="250560" y="1412640"/>
            <a:ext cx="8569080" cy="544500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800" spc="-1" strike="noStrike">
                <a:solidFill>
                  <a:srgbClr val="404040"/>
                </a:solidFill>
                <a:latin typeface="Century Gothic"/>
              </a:rPr>
              <a:t>Pessoas com esquemas neste domínio são incapazes de formar vínculos seguros e satisfatórios com outras pessoas. Possuem expectativas de que as necessidades de ter proteção, segurança, estabilidade, carinho, cuidado, empatia, compartilhamento de sentimento, aceitação e respeito não serão atendidas. A família de origem é tipicamente desligada, distante, fria, rejeitadora, refreadora, solitária, explosiva, impaciente, imprevisível ou abusiva.</a:t>
            </a:r>
            <a:endParaRPr b="0" lang="en-US" sz="28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63800" y="11556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81" name=""/>
          <p:cNvSpPr txBox="1"/>
          <p:nvPr/>
        </p:nvSpPr>
        <p:spPr>
          <a:xfrm>
            <a:off x="1115640" y="1197000"/>
            <a:ext cx="7777080" cy="540072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Emaranhamento/self subdesenvolvido- o terapeuta ajuda o paciente por meio do estabelecimento de limites apropriados, não tão próximos nem tão distantes. Estimula o paciente a desenvolver um sentido de self separad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Fracasso- o terapeuta apoia as conquistas do paciente no trabalho ou nos estudos. Proporciona estrutura e define limite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rrogo- o terapeuta apoia o polo vulnerável do paciente e não reforça o pólo que tem que arrogar-se direitos. Confronta empaticamente o arrogo e estabelece limites. Apoia as conexões emocionais mais do que o status ou o poder</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94436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83" name=""/>
          <p:cNvSpPr txBox="1"/>
          <p:nvPr/>
        </p:nvSpPr>
        <p:spPr>
          <a:xfrm>
            <a:off x="1258920" y="1281240"/>
            <a:ext cx="7634160" cy="5316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utocontrole/ autodisciplina insuficientes- o terapeuta é firme ao estabelecer limites. Oferece modelos apropriados de autocontrole e autodisciplina e recompensa o paciente por desenvolver gradualmente essas capacidade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Subjugação- o terapeuta é relativamente não diretivo, em vez de controlador. Estimula o paciente a fazer escolhas em relação a objetivos de terapia, técnicas de tratamento e tarefas de casa. Aponta comportamentos respeitosos ou revoltados e ajuda o paciente a reconhecer a raiva, a liberá-la e depois, a aprender a se expressar adequadamente.</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194436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85" name=""/>
          <p:cNvSpPr txBox="1"/>
          <p:nvPr/>
        </p:nvSpPr>
        <p:spPr>
          <a:xfrm>
            <a:off x="1258920" y="1281240"/>
            <a:ext cx="7634160" cy="5316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Auto-sacrifício- o terapeuta ajuda o paciente estabelecer fronteiras adequadas e a afirmar seus próprios direitos e necessidades. Estimula-o a confiar nele, validando assim, suas necessidades de dependência, e o desestimula a cuidar do terapeuta, indicando o padrão por meio de um confronto empátic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Negatividade/ Pessimismo- o terapeuta evita fazer papel de lado positivo em relação ao polo negativo do paciente. Em vez disso, pede que o próprio paciente faça os dois papéis. O terapeuta oferece um modelo de um otimismo saudável.</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94436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87" name=""/>
          <p:cNvSpPr txBox="1"/>
          <p:nvPr/>
        </p:nvSpPr>
        <p:spPr>
          <a:xfrm>
            <a:off x="1258920" y="1281240"/>
            <a:ext cx="7634160" cy="5316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Inibição emocional- o terapeuta estimula, nas sessões, o paciente a expressar sentimentos espontaneamente e oferece modelos adequados para essa expressão.</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Padrões inflexíveis- o terapeuta oferece modelos de padrões equilibrados em sua abordagem à terapia e em sua própria vida. Em vez de manter um clima de seriedade rígida, recompensa o paciente por um comportamento divertido, valoriza a relação terapêutica, mais do que as realizações, estimula o comportamento imperfeito.</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944360" y="-36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Reparação parental de cada esquema</a:t>
            </a:r>
            <a:endParaRPr b="0" lang="en-US" sz="3600" spc="-1" strike="noStrike">
              <a:solidFill>
                <a:srgbClr val="262626"/>
              </a:solidFill>
              <a:latin typeface="Century Gothic"/>
            </a:endParaRPr>
          </a:p>
        </p:txBody>
      </p:sp>
      <p:sp>
        <p:nvSpPr>
          <p:cNvPr id="1389" name=""/>
          <p:cNvSpPr txBox="1"/>
          <p:nvPr/>
        </p:nvSpPr>
        <p:spPr>
          <a:xfrm>
            <a:off x="1258920" y="1281240"/>
            <a:ext cx="7634160" cy="5316480"/>
          </a:xfrm>
          <a:prstGeom prst="rect">
            <a:avLst/>
          </a:prstGeom>
          <a:noFill/>
          <a:ln w="0">
            <a:noFill/>
          </a:ln>
        </p:spPr>
        <p:txBody>
          <a:bodyPr anchor="t">
            <a:normAutofit/>
          </a:bodyPr>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Postura punitiva- os terapeutas assumem uma atitude de perdão em relação ao paciente e as eles mesmos, e elogiam o paciente por perdoar os outros.</a:t>
            </a:r>
            <a:endParaRPr b="0" lang="en-US" sz="24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404040"/>
                </a:solidFill>
                <a:latin typeface="Century Gothic"/>
              </a:rPr>
              <a:t>Busca de aprovação- o terapeuta enfatiza o self fundamental do paciente em detrimento de conquistas superficiais, como status, aparência ou riquez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006360"/>
            <a:ext cx="82296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000000"/>
                </a:solidFill>
                <a:latin typeface="Calibri"/>
              </a:rPr>
              <a:t>Obrigada pela atenção</a:t>
            </a:r>
            <a:r>
              <a:rPr b="0" lang="pt-BR" sz="3600" spc="-1" strike="noStrike">
                <a:solidFill>
                  <a:srgbClr val="000000"/>
                </a:solidFill>
                <a:latin typeface="Century Gothic"/>
              </a:rPr>
              <a:t>!</a:t>
            </a:r>
            <a:endParaRPr b="0" lang="en-US" sz="36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20840" y="115920"/>
            <a:ext cx="8229600" cy="1139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3600" spc="-1" strike="noStrike">
                <a:solidFill>
                  <a:srgbClr val="262626"/>
                </a:solidFill>
                <a:latin typeface="Century Gothic"/>
              </a:rPr>
              <a:t>Esquemas do domínio I</a:t>
            </a:r>
            <a:endParaRPr b="0" lang="en-US" sz="3600" spc="-1" strike="noStrike">
              <a:solidFill>
                <a:srgbClr val="262626"/>
              </a:solidFill>
              <a:latin typeface="Century Gothic"/>
            </a:endParaRPr>
          </a:p>
        </p:txBody>
      </p:sp>
      <p:sp>
        <p:nvSpPr>
          <p:cNvPr id="1205" name=""/>
          <p:cNvSpPr txBox="1"/>
          <p:nvPr/>
        </p:nvSpPr>
        <p:spPr>
          <a:xfrm>
            <a:off x="250920" y="1255680"/>
            <a:ext cx="8642160" cy="5486400"/>
          </a:xfrm>
          <a:prstGeom prst="rect">
            <a:avLst/>
          </a:prstGeom>
          <a:noFill/>
          <a:ln w="0">
            <a:noFill/>
          </a:ln>
        </p:spPr>
        <p:txBody>
          <a:bodyPr anchor="t">
            <a:normAutofit/>
          </a:bodyPr>
          <a:p>
            <a:pPr marL="343080" indent="-343080" algn="just">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800" spc="-1" strike="noStrike">
                <a:solidFill>
                  <a:srgbClr val="404040"/>
                </a:solidFill>
                <a:latin typeface="Century Gothic"/>
              </a:rPr>
              <a:t>Abandono/ Instabilidade- </a:t>
            </a:r>
            <a:r>
              <a:rPr b="0" lang="pt-BR" sz="2800" spc="-1" strike="noStrike">
                <a:solidFill>
                  <a:srgbClr val="404040"/>
                </a:solidFill>
                <a:latin typeface="Century Gothic"/>
              </a:rPr>
              <a:t>é a percepção da instabilidade ou falta de confiança no vínculo daqueles que são importantes. Não há conexão, força ou proteção prática, por serem emocionalmente instáveis e imprevisíveis (por exemplo, ataques de raiva), não confiáveis ou erraticamente presentes; por que vão morrer a qualquer momento; ou porque abandonarão o paciente em favor de alguém melhor.</a:t>
            </a:r>
            <a:endParaRPr b="0" lang="en-US" sz="2800" spc="-1" strike="noStrike">
              <a:solidFill>
                <a:srgbClr val="404040"/>
              </a:solidFill>
              <a:latin typeface="Century Gothic"/>
            </a:endParaRPr>
          </a:p>
          <a:p>
            <a:pPr marL="343080" indent="-343080">
              <a:spcBef>
                <a:spcPts val="1001"/>
              </a:spcBef>
              <a:buClr>
                <a:srgbClr val="92278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6T20:12:15Z</dcterms:created>
  <dc:creator>Neide</dc:creator>
  <dc:description/>
  <dc:language>en-US</dc:language>
  <cp:lastModifiedBy>User</cp:lastModifiedBy>
  <dcterms:modified xsi:type="dcterms:W3CDTF">2021-07-31T00:59:38Z</dcterms:modified>
  <cp:revision>102</cp:revision>
  <dc:subject/>
  <dc:title>Teoria e Terapia do Esquema</dc:title>
</cp:coreProperties>
</file>